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327EA-198F-402F-99F1-79408B6D5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60F05-0178-4156-BAE7-90079FB98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88464-0B03-4E15-A91B-BFB34EE3F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6DFA1-298C-4A35-8E96-ECC3B2E38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FA915-96EB-4B52-B997-6FDF267A0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DE81B-0A3B-4703-8587-88A95D121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F1E2B-0821-4946-8C5D-88CF86481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BC830-3797-4F58-893E-7FEB05523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8B987-91F7-44E0-976B-FFD349D6C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DD4DA-78D0-4166-9D7A-E6F92B47E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51EF4-FD81-4ABC-98EC-7DE118CC5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9F7F1-C3D2-4C34-81BE-336514F11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984AA-E100-4A49-B24C-F8F1C00AD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34E57-67D6-4C67-BE85-7547B4CE2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4EBB3-DEBA-4D36-9D64-3E631429E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9FBEA-EBCC-4E5F-B15E-4D4E3BCA0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EFBEA-A356-4188-AE68-6EFDFF84B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77153-7A20-4C28-8EA8-4B25A1524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33000-39F1-4717-8521-C2F2948B2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C7EF7-3A0C-4365-9F4F-93128631D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BFBE6-E05F-4E38-B401-4634AD28D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7397D-9283-4DD2-ABEA-FF35AC9CC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33FFD-4D26-4171-A79D-FB0A539AB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403A7-DE49-4795-9B12-85FC5C968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7E977-974B-430E-B50B-2761325C531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A1228-2126-4A71-AA5F-580F4F97EB3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0066"/>
                </a:solidFill>
                <a:latin typeface="Arial"/>
              </a:rPr>
              <a:t>Acl_cpp</a:t>
            </a:r>
            <a:r>
              <a:rPr b="1" lang="zh-CN" sz="4800" spc="-1" strike="noStrike">
                <a:solidFill>
                  <a:srgbClr val="330066"/>
                </a:solidFill>
                <a:latin typeface="Arial"/>
              </a:rPr>
              <a:t>使用指南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12.3.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330066"/>
                </a:solidFill>
                <a:latin typeface="Arial"/>
              </a:rPr>
              <a:t>目录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zsx</cp:lastModifiedBy>
  <dcterms:modified xsi:type="dcterms:W3CDTF">2012-03-22T15:00:4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