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A75E7-E8A2-42B7-9E32-0D3AB0946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8F5F8-B8DD-428F-9EB6-606A650A3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8C5F1-2624-4117-B94F-A44A5A825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6DD88-8C18-4DCF-82E6-DEAD9AE31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C7EFD-21D2-498A-BCFE-1C31ADF27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87E2B-40F4-472D-A0EA-6B7706689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80C92-9EEA-406B-B3AC-910031EE2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0C06E-6CC9-4007-98A6-B84B71BF9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DCF2D-3F56-4464-B860-F171E12E9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261DE-1C41-4CAD-97BB-EC0FD1D51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326F8-E2C1-424F-8609-9E129835D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F78A8-E023-463D-A8A8-681842C1C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A8EB9-17DF-4270-B462-D66C18BEF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98265-DE78-4D63-B957-EC5794C0F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A6304-6504-49DE-85E4-05E434B67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A5EE5-D9DE-4B18-B86B-59E58C73C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7E82E-5DF2-464A-B09F-6F538D031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D20FC-1F4A-40A5-9D62-C8EB58FF6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1F4CE-D64F-42D7-B824-260A8558B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F4A1E-BB9C-4990-BDD5-6DC959875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AD201-5946-4A86-96E7-D8CC5BBD5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BC018-34F1-4818-8D7A-E12F4687F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E66B2-7C64-4065-B9FC-ACCF54371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80885-6771-4C3F-8E73-8BEA9643A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2511B-D612-4053-898F-0EDE81B51140}" type="slidenum">
              <a:rPr b="0" lang="zh-CN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3975B-6451-4CEE-A105-FCF8370A74F8}" type="slidenum">
              <a:rPr b="0" lang="zh-CN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6633"/>
                </a:solidFill>
                <a:latin typeface="方正舒体"/>
                <a:ea typeface="方正舒体"/>
              </a:rPr>
              <a:t>ACL</a:t>
            </a:r>
            <a:r>
              <a:rPr b="0" lang="zh-CN" sz="5400" spc="-1" strike="noStrike">
                <a:solidFill>
                  <a:srgbClr val="006633"/>
                </a:solidFill>
                <a:latin typeface="方正舒体"/>
                <a:ea typeface="方正舒体"/>
              </a:rPr>
              <a:t>库常用</a:t>
            </a:r>
            <a:r>
              <a:rPr b="0" lang="zh-CN" sz="5400" spc="-1" strike="noStrike">
                <a:solidFill>
                  <a:srgbClr val="006633"/>
                </a:solidFill>
                <a:latin typeface="方正舒体"/>
                <a:ea typeface="方正舒体"/>
              </a:rPr>
              <a:t>API</a:t>
            </a:r>
            <a:r>
              <a:rPr b="0" lang="zh-CN" sz="5400" spc="-1" strike="noStrike">
                <a:solidFill>
                  <a:srgbClr val="006633"/>
                </a:solidFill>
                <a:latin typeface="方正舒体"/>
                <a:ea typeface="方正舒体"/>
              </a:rPr>
              <a:t>使用介绍</a:t>
            </a:r>
            <a:endParaRPr b="0" lang="en-US" sz="5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11.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平衡二叉树</a:t>
            </a:r>
            <a:br>
              <a:rPr sz="2100"/>
            </a:b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880" y="914400"/>
            <a:ext cx="77724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结构定义：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avl_tree_t, avl_node_t, av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主要函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创建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vl_create(avl_tree_t*, int (*cmp_fn)(const void*, const void*), sizeof(USER_STRUCT), offsetof(USER_STRUCT, node_member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添加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vl_add(avl_tree_t*, USER_STRUC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查找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(USRE_STRUCT*) avl_find(avl_tree_t*, USER_STRUCT*, avl_index_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删除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vl_remove(avl_tree_t*, USER_STRUCT*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销毁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vl_destroy(avl_tree_t*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举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typedef struct  DUMMY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har buf[256]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nt   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vl_node_t entry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平衡二叉树结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 DUMMY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int cmp_func(const void* n1, const void* n2)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平衡二叉树的比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DUMMY *d1 = (DUMMY*) n1, *d2 = (DUMMY*) n2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(d1-&gt;n – d2-&gt;n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ruct DUMMY dummy1, dummy2, dummy, *dummy_ptr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vl_tree_t tree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平衡二叉树对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vl_create(&amp;tree, cmp_func, sizeof(DUMMY), offsetof(DUMMY, entry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创建平衡二叉树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vl_add(&amp;tree, &amp;dummy1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添加结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vl_add(&amp;tree, &amp;dummy2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添加结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dummy.n = 1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dummy_ptr = (DUMMY*) avl_find(&amp;tree, &amp;dummy);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查找结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dummy.n = dummy1.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vl_remove(&amp;tree, &amp;dummy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删除结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dummy.n = dummy2.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vl_remove(&amp;tree, &amp;dummy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删除结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vl_destroy(&amp;tree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销毁平衡二叉树对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lib_acl/include/stdlib/avl.h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006633"/>
                </a:solidFill>
                <a:latin typeface="Garamond"/>
              </a:rPr>
              <a:t>通用遍历器</a:t>
            </a:r>
            <a:br>
              <a:rPr sz="1900"/>
            </a:br>
            <a:r>
              <a:rPr b="0" lang="zh-CN" sz="19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19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19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880" y="91440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结构定义：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ACL_I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使用方法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：变量声明                   正向遍历                                                逆向遍历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ITER iter;         acl_foreach(iter, container) {                           acl_foreach_reverse(iter, container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void* ptr = iter.data;                                          void* ptr = iter.data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…                                                                      …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                                                     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}                                                                       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符合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ACL_ITER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要求的容器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数据结构部分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RRAY, ACL_ARGV, ACL_FIFO, ACL_STACK, ACL_DLINK, ACL_HTABLE, ACL_BINHAS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网络部分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DNS_DB, ACL_IFCON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数据库部分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SQL_RES, ZDB_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器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/ACL_XML_NODE, ACL_JSON/ACL_JSON_N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举例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struct DUMMY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r  buf[256]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 n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 DUMMY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 *a = acl_array_create(10);  //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动态数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HTABLE *t = acl_htable_create(10, 0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哈希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UMMY dummy1, dummy2, *dummy_ptr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ITER iter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_append(a, &amp;dummy1);  acl_array_append(a, &amp;dummy2); 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结点至动态数组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htable_enter(t, “key1”, &amp;dummy1); acl_htable_enter(t, “key2”, &amp;dummy2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结点至哈希表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, a) {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动态数组中的所有元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ummy_ptr = (DUMMY*) iter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%s\n”, dummy_ptr-&gt;bu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, t) {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哈希表中的所有元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ummy_ptr = (DUMMY*) iter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%s\n”, dummy_ptr-&gt;bu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_free(a, NULL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销毁动态数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htable_free(t, NULL);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销毁哈希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iterator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网络编程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TCP/IP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协议基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较为底层的网络编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连接控制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较为高层的网络编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网络流读写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域名解析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网络编程杂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异步非阻塞网络编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TCP/IP </a:t>
            </a: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协议分层</a:t>
            </a:r>
            <a:br>
              <a:rPr sz="2400"/>
            </a:b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---TCP/IP</a:t>
            </a: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协议基础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380880" y="1371600"/>
            <a:ext cx="82296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数据封装</a:t>
            </a:r>
            <a:br>
              <a:rPr sz="2400"/>
            </a:b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---TCP/IP</a:t>
            </a: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协议基础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457200" y="1295280"/>
            <a:ext cx="8229600" cy="453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较为底层的网络编程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服务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网络套接口监听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SOCKET acl_inet_listen(const char* addr, int backlog, int block_mod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接收客户端连接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SOCKET acl_inet_accept(ACL_SOCKET listenf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SOCKET acl_sane_accept(ACL_SOCKET listenfd, struct sockaddr *sa, socklen_t *le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示例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char* addr=“127.0.0.1:8080”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SOCKET listenfd = acl_inet_listen(addr, 128, ACL_BLOCKING)  /*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监听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*/, clientfd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ssert(listenf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lientfd = acl_inet_accept(listenfd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等待客户端连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clientfd == ACL_SOCKET_INVALI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tinu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socket_close(clientfd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关闭客户端连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客户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连接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服务器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SOCKET acl_inet_connect(const char* addr, int block_mode, int timeou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连接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UNIX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域服务器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SOCKET acl_unix_connect(const char* addr, int block_mode, int timeou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sane_connect(ACL_SOCKET sock, const struct sockaddr* sa, socklen_t le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示例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char* addr = “127.0.0.1:8080”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COCKET clientfd = acl_inet_connect(addr, ACL_BLOCKING, 60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连接服务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clientfd != ACL_SOCKET_INVALID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socket_close(clientfd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关闭连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net,  acl_listen.h, acl_connect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TC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连接控制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设置延迟发送开关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(IPPROTO_TCP/TCP_NODELAY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tcp_nodelay(ACL_SOCKET fd, int onof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设置数据可读接收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(IPPROTO_TCP/ TCP_DEFER_ACCEPT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tcp_defer_accept(ACL_SOCKET listenfd, int timeou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设置连接关闭属性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(SOL_SOCKET/ SO_LINGER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tcp_so_linger(ACL_SOCKET fd, int onoff, int timeou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设置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获得套接口读缓冲区大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tcp_set_rcvbuf(ACL_SOCKET fd, int 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acl_tcp_get_rcvbuf(ACL_SOCKET f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设置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获得套接口写缓冲区大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tcp_set_sndbuf(ACL_SOCKET fd, int 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acl_tcp_get_sndbuf(ACL_SOCKET f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获得远程连接的地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getpeername(ACL_SOCKET sockfd, char *buf, size_t b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获得本地连接的地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getsockname(ACL_SOCKET sockfd, char *buf, size_t b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net/acl_tcp_ctl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较为高层的网络编程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880" y="8377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服务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监听本地地址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EAM *acl_vstream_listen(const char *addr, int qle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接收远程连接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EAM *acl_vstream_accept(ACL_VSTREAM *listen_stream, char *ipbuf, int b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示例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char* addr = “127.0.0.1:8080”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EAM* server = acl_vstream_listen(addr, 128) /*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服务器监听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*/, *clien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ssert(serv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lient = acl_vstream_accept(server, NULL, 0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等待客户端连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client == NUL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tinu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o_something(clien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eam_close(client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关闭客户端连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客户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建立远程连接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EAM *acl_vstream_connect(const char *addr, int block_mode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connect_timeout, int rw_timeout, int rw_buf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示例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char* addr = “127.0.0.1:8080”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EAM* client = acl_vstream_connect(addr, ACL_BLOCKING, 60, 60, 8192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连接服务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client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o_something(clien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eam_close(client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关闭连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vstream_net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网络流读写接口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8229600" cy="51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按行读数据，不去掉末尾的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\r\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（阻塞方式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gets(ACL_VSTREAM *stream, void *buf, size_t maxlen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按行读数据，去掉末尾的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\r\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（阻塞方式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gets_nonl(ACL_VSTREAM *stream, void *buf, size_t maxle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读取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个字节的数据（阻塞方式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readn(ACL_VSTREAM *stream, char *buf, int 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一次性从流读操作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返回实际读取的字节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read(ACL_VSTREAM *stream, char *buf, int 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写入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个字节的数据（阻塞方式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writen(ACL_VSTREAM *stream, const void *vptr, size_t dle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一次性写入流操作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返回实际写入的字节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write(ACL_VSTREAM *stream, const void *vptr, size_t dle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以格式方式写入数据（阻塞方式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 acl_vstream_fprintf(ACL_VSTREAM *stream, const char *fmt, ..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vfprintf(ACL_VSTREAM *stream, const char *fmt, va_list ap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带缓冲方式的写入（阻塞方式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buffed_fprintf(ACL_VSTREAM *stream, const char *fmt, ..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buffed_vfprintf(ACL_VSTREAM *stream, const char *fmt, va_list ap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buffed_writen(ACL_VSTREAM *stream, const void *vptr, size_t dle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刷新写缓冲区里的数据（阻塞方式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fflush(ACL_VSTREAM *stream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vstream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3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网络流写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30592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void do_write(ACL_VSTREAM* client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har  buf[8192]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onst char* data = “hello world!\r\n”), *ptr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nt   ret, 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VSTREAM_SET_RWTIMO(client, 60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O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读写超时时间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n = (int) strlen(data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写数据过程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 = acl_vstream_fprintf(client, “hello world\r\n%s”, data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格式写入一行数据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ret == ACL_VSTREAM_EOF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msg_error(“fprintf to client error: %s”, acl_last_serror(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 = acl_vstream_writen(client, data, n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写入定长数据，完全写成功或出错时才返回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ret == ACL_VSTREAM_EOF) {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表示出错，之后应该关闭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lient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连接流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msg_error(“write to client error: %s”, acl_last_serror(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// acl_vstream_writen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等效于如下写过程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tr = data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while (n &gt; 0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 = acl_vstream_write(client, ptr, n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ret == ACL_VSTREAM_EOF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286280" indent="-303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msg_error(“write to client error: %s”, acl_last_serror(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286280" indent="-303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n -= re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lib_acl/include/stdlib/acl_vstream.h; samples/vstre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目录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常用数据结构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网络编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数据库编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解析库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JSON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解析库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协议库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服务器编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网络流读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void do_read(ACL_VSTREAM* client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har  buf[8192]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nt   re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VSTREAM_SET_RWTIMO(client, 60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O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读写超时时间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 = acl_vstream_gets(client, buf, sizeof(buf));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读完整一行数据，尾部含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\r\n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\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ret == ACL_VSTREAM_EOF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msg_error(“%s(%d), %s: gets error: %s”,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__FILE__, __LINE__, __FUNCTION__, acl_last_serror(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862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 = acl_vstream_gets_nonl(client, buf, sizeof(buf));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读完整行数据，尾部不含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\r\n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\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ret == ACL_VSTREAM_EOF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msg_error(“%s(%d), %s: gets error: %s”,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__FILE__, __LINE__, __FUNCTION__, acl_last_serror(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862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 = acl_vstream_readn(client, buf, sizeof(buf) – 1);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读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8191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个字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ret == ACL_VSTREAM_EOF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msg_error(“%s(%d), %s: readn error: %s”, _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_FILE__, __LINE__, acl_last_serror(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862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 = acl_vstream_read(client, buf, sizeof(buf) - 1);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只要有数据可读或出错或超时都返回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ret == ACL_VSTREAM_EOF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msg_error(“%s(%d), %s: read error: %s”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286280" indent="-303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__FILE__, __LINE__, acl_last_serror(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2862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msg_info(“read over now”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lib_acl/include/stdlib/acl_vstream.h; samples/vstre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域名解析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通用域名解析函数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NS_DB *acl_gethostbyname(const char *name, int *h_erro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释放解析结果内存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netdb_free(ACL_DNS_DB *dns_db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示例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char* domain = “mail.51iker.com”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 errnum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NS_DB* dns_db = acl_gethostbyname(domain, &amp;errnum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域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dns_db == NULL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can’t get %s’ ip, error: %s\r\n”, domain, acl_netdb_strerror(errnum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ITER iter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, dns_db) {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域名解析结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ACL_HOSTNAME* name = (const ACL_HOSTNAME*) iter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ip: %s\n”, name-&gt;ip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netdb_free(dns_db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net/acl_netdb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网络编程杂项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）从流中获得套接字：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SOCKET fd = ACL_VSTREAM_SOCK(ACL_VSTREAM*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）从流中获得远程地址：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const char* addr = ACL_VSTREAM_PEER(ACL_VSTREAM*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）设置流的读写超时时间：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VSTREAM_SET_RWTIMO(ACL_VSTREAM*, int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）获得本机网卡地址列表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结构定义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IFCONF, ACL_IFADD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函数定义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获得本机网卡集合：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IFCONF *acl_get_ifaddrs(void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释放结果：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void acl_free_ifaddrs(ACL_IFCONF *ifconf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示例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IFCONF* ifconf = acl_get_ifaddrs();  //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获得本机的所有网卡地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If (ifconf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ITER ite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foreach(iter, ifconf) {  //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遍历网卡地址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const ACL_IFADDR* addr = (const ACL_IFADDR*) iter.data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printf(“name: %s, ip: %s\n”, addr-&gt;name, addr-&gt;ip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free_ifaddrs(ifconf); //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释放内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lib_acl/include/stdlib/acl_vstream.h, lib_acl/include/net/acl_ifconf.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异步通信框架</a:t>
            </a:r>
            <a:br>
              <a:rPr sz="2000"/>
            </a:b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）结构定义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AIO, ACL_ASTRE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）主要函数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创建异步句柄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IO *acl_aio_create(int event_mode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IO *acl_aio_create2(int event_mode, unsigned int nMsg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event_mode: ACL_EVENT_SELECT, ACL_EVENT_POLL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EVENT_KERNEL(epoll/devpool/kqueue/iocp), ACL_EVENT_WMSG(win3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异步循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loop(ACL_AIO *aio)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释放异步句柄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free(ACL_AIO *aio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创建异步通信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STREAM *acl_aio_open(ACL_AIO *aio, ACL_VSTREAM *stream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异步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IO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完成后关闭异步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iocp_close(ACL_ASTREAM *astream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设置异步流的参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ctl(ACL_ASTREAM *astream, int name, ..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主动检查延迟关闭连接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check(ACL_AIO *aio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设置持续读状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set_keep_read(ACL_AIO *aio, int onof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设置异步定时器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int64 acl_aio_request_timer(ACL_AIO *aio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IO_TIMER_FN timer_fn, void *context, acl_int64 idle_limit)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取消异步定时器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acl_int64 acl_aio_cancel_timer(ACL_AIO *aio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ACL_AIO_TIMER_FN timer_fn, void *contex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lib_acl/include/aio/acl_aio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3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端接口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0880" y="6854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设置异步监听流的回调函数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方法一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int __accept_callback(ACL_ASTREAM *client, void *contex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do_something(client, context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ctl(ACL_ASTREAM *, ACL_AIO_CTL_ACCEPT_FN, __accept_callback, ACL_AIO_CTL_CTX, xxx, ACL_AIO_CTL_END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方法二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int  __listen_callback(ACL_ASTREAM *sstream, void *contex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STREAM* clien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VSTREAM* cstream = acl_vstream_accept(acl_aio_vstream(sstream)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接收客户端连接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cstream == NUL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(0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lient = acl_aio_open(acl_aio_handle(sstream), cstream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将客户端连接转为异步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do_something(client, context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ctl(ACL_ASTREAM *, ACL_AIO_CTL_LISTEN_FN, __listen_callback, ACL_AIO_CTL_CTX, xxx, ACL_AIO_CTL_END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示例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* aio = acl_aio_create(ACL_EVENT_KERNEL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创建本机支持的内核级异步事件引擎对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STREAM* sstream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VSTREAM* server = acl_vstream_listen(“127.0.0.1:8080”, 128);  //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监听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ssert(server);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stream = acl_aio_open(aio, server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将监听流转为异步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ctl(sstream, ACL_AIO_CTL_ACCEPT_FN, __accept_callback, ACL_AIO_CTL_END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设置异步服务流的回调函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loop(aio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异步事件循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客户端接口—读操作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7621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回调函数类型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typedef int (*ACL_AIO_READ_FN)(ACL_ASTREAM *astream, void *context,  char *data, int dlen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设置读回调函数（可以针对一个客户端同时添加多个回调函数）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aio_add_read_hook(ACL_ASTREAM *astream, ACL_AIO_READ_FN callback, void *ctx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删除读回调函数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aio_del_read_hook(ACL_ASTREAM *astream, ACL_AIO_READ_FN callback, void *ctx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异步读一行数据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aio_gets(ACL_ASTREAM *astream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aio_gets_nonl(ACL_ASTREAM *astream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异步读规定字节数据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aio_readn(ACL_ASTREAM *astream, int count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读任意长度的数据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aio_read(ACL_ASTREAM *astream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示例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int __gets_callback(ACL_ASTREAM* client, void* ctx, char* line, int dlen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printf(“gets: %s, len: %d\r\n”, line, dlen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strcasecmp(line, “QUIT”) == 0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iocp_close(client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当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O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完成后关闭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void do_something(ACL_ASTREAM* clien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add_read_hook(client, __gets_callback, NULL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添加流的异步读回调，可以添加多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gets_nonl(client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异步读一行数据，末尾不带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\r\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客户端接口—写操作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80880" y="762120"/>
            <a:ext cx="82296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Arial"/>
              </a:rPr>
              <a:t>回调函数类型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typedef int (*ACL_AIO_WRITE_FN)(ACL_ASTREAM *astream, void *context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）添加异步写成功回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oid acl_aio_add_write_hook(ACL_ASTREAM *astream, ACL_AIO_WRITE_FN callback, void *ctx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）删除异步写回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oid acl_aio_del_write_hook(ACL_ASTREAM *astream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WRITE_FN callback, void *ctx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）异步写指定长度数据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oid acl_aio_writen(ACL_ASTREAM *astream, const char *data, int dlen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）类似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格式异步写数据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oid acl_aio_fprintf(ACL_ASTREAM *astream, const char *fmt, ...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oid acl_aio_vfprintf(ACL_ASTREAM *astream, const char *fmt, va_list ap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）异步写一组数据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oid acl_aio_writev(ACL_ASTREAM *astream, const struct iovec *vector, int count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Arial"/>
              </a:rPr>
              <a:t>示例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int __write_callback(ACL_ASTREAM* client, void* ctx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write to peer ok\r\n”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urn (0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void do_something(ACL_ASTREAM* client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io_add_write_hook(client, __write_callback, NULL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流异步写的回调函数，可添加多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acl_aio_refer(client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增加引用计数，防止在下面的写操作过程中提前关闭流，因为下面还有写操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io_writen(client, “hello\r\n”, sizeof(“hello\r\n”) – 1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异步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acl_aio_unrefer(client);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恢复引用计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io_fprintf(client, “How are you\r\n”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异步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客户端接口—远程连接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回调函数类型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int (*ACL_AIO_CONNECT_FN)(ACL_ASTREAM *cstream, void *contex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添加连接成功回调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add_connect_hook(ACL_ASTREAM *astream, ACL_AIO_CONNECT_FN callback, void *ctx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删除连接成功回调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del_connect_hook(ACL_ASTREAM *astream, ACL_AIO_CONNECT_FN callback, void *ctx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异步连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STREAM *acl_aio_connect(ACL_AIO *aio, const char *saddr, int timeou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示例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int __connect_callback(ACL_ASTREAM* client, void* ct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o_somethine(clien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void test_connect(ACL_AIO* aio, const char* add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STREAM* client = acl_aio_connect(aio, addr, 10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异步连接服务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client == NULL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connect %s error(%s)\r\n”, addr, acl_last_serror(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io_add_connect_hook(client, __connect_callback, NULL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流异步连接的回调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读写超时及关闭回调接口</a:t>
            </a:r>
            <a:br>
              <a:rPr sz="2000"/>
            </a:b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回调函数类型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超时回调接口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int (*ACL_AIO_TIMEO_FN)(ACL_ASTREAM *astream, void *contex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关闭回调接口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int (*ACL_AIO_CLOSE_FN)(ACL_ASTREAM *astream, void *contex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添加读写超时回调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add_timeo_hook(ACL_ASTREAM *astream, ACL_AIO_TIMEO_FN callback, void *ctx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删除超时回调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del_timeo_hook(ACL_ASTREAM *astream, ACL_AIO_TIMEO_FN callback, void *ctx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示例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int __timeout_callback(ACL_ASTREAM* client, void* ct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-1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返回负值通知框架关闭该异步注连接，若返回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gt;= 0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则继续等待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int __close_callback(ACL_ASTREAM* client, void* ct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void set_callback(ACL_ASTREAM* client, int timeou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ctl(client, ACL_AIO_CTL_TIMEOUT, timeout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11960" indent="-34740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CTL_TIMEO_FN, __timeout_callback, ACL_AIO_CTL_END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端例子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80880" y="7621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#include “lib_acl.h”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int __stop =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int __accept_callback(ACL_ASTREAM* client, void* ctx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add_read_hook(client, __read_callback, NULL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流的异步读回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add_write_hook(client, __write_callback, NULL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流的异步写回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gets_nonl(client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异步读一行数据，并且自动去掉末尾的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\r\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nt main(int argc, const char* argv[]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* aio = acl_aio_create(ACL_EVENT_KERNEL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创建异步引擎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STREAM* sstream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VSTREAM* server = acl_vstream_listen(“127.0.0.1:8080”, 128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监听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ssert(server);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stream = acl_aio_open(aio, server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打开异步监听流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ctl(sstream, ACL_AIO_CTL_ACCEPT_FN, __accept_callback, ACL_AIO_CTL_END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回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__stop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275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break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loop(aio);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异步事件循环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free(aio);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释放异步事件引擎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动态数组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队列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cc9900"/>
                </a:solidFill>
                <a:latin typeface="Arial"/>
              </a:rPr>
              <a:t>堆栈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双向环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哈希表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二分块查找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cc9900"/>
                </a:solidFill>
                <a:latin typeface="Arial"/>
              </a:rPr>
              <a:t>二叉树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平衡二叉树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cc9900"/>
                </a:solidFill>
                <a:latin typeface="Arial"/>
              </a:rPr>
              <a:t>快速匹配树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通用遍历器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端例子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80880" y="7621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int __read_callback(ACL_ASTREAM* client, void* ctx, char* data, int dlen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“gets: %s\n”, data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strcasecmp(data, “quit”) == 0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io_iocp_close(client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关闭异步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 else if (strcasecmp(data, “stop”) == 0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__stop = 1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fprintf(client, “%s\r\n”, data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异步写一行数据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int __write_callback(ACL_ASTREAM* client, void* ctx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int __timeout_callback(ACL_ASTREAM* client, void* ctx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“client read timeout\r\n”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int __close_callback(ACL_ASTREAM* client, void* ctx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“client close now\r\n”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客户端例子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880" y="76176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#include “lib_acl.h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int __stop =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int __connect_callback(ACL_ASTREAM* client, void* ctx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const char* mydata = “connection!”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add_read_hook(client, __read_callback, NULL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异步读回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add_write_hook(client, __write_callback, NULL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异步写回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gets_nonl(client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异步读一行数据且不带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\r\n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fprintf(client, “hello world, %s\r\n”, mydata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异步写一行数据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nt main(int argc, const char* argv[]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onst char* addr = “127.0.0.1:8080”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* aio = acl_aio_create(ACL_EVENT_SELECT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创建一个异步引擎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STREAM* clien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nt  timeout = 1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lient = acl_aio_connect(aio, addr, timeout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异步连接服务器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client == NULL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“connect %s error(%s)\r\n”, addr, acl_last_serror(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1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add_connect_hook(client, __connect_callback, NULL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添加流异步连接的回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__stop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break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loop(aio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异步引擎循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free(aio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释放异步引擎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数据库编程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数据库连接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数据库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操作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数据库连接池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6854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数据结构类型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DB_POOL, ACL_DB_HANDLE, ACL_DB_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创建连接池对象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DB_POOL *acl_dbpool_create(const char *db_type, const ACL_DB_INFO *db_info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销毁连接池对象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dbpool_destroy(ACL_DB_POOL *db_pool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从连接池获取连接对象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DB_HANDLE *acl_dbpool_peek(ACL_DB_POOL *db_pool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将连接对象转为实际连接对象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*acl_dbpool_export(ACL_DB_HANDLE *db_handle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将连接对象归还连接池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dbpool_release(ACL_DB_HANDLE *db_handle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手动关闭连接对象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dbpool_close(ACL_DB_HANDLE *db_handle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示例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一、创建连接池对象，实际上并不连接数据库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DB_POOL * dbconn_init(const char* dbaddr, const char* dbname, const char* dbuser, const char* dbpass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nt dbpool_max, int dbping, int dbtimeout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DB_POOL *db_pool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DB_INFO db_info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//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初始化连接池的参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memset(&amp;db_info, 0, sizeof(ACL_DB_INFO)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SAFE_STRNCPY(db_info.db_addr, dbaddr, sizeof(db_info.db_addr)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数据库地址，如：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/tmp/mysql.sock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或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127.0.0.1:3306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SAFE_STRNCPY(db_info.db_name, dbname, sizeof(db_info.db_name));  //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数据库名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SAFE_STRNCPY(db_info.db_user, dbuser, sizeof(db_info.db_user)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数据库帐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SAFE_STRNCPY(db_info.db_pass, dbpass, sizeof(db_info.db_pass)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数据库帐号密码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db_info.db_max = dbpool_max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最大连接个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db_info.ping_inter = dbping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探测每个连接的时间间隔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db_info.timeout_inter = dbtimeout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每个连接的最长空闲时间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db_info.auto_commit = 1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自动提交修改过程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db_pool = acl_dbpool_create(“mysql”, &amp;db_info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创建连接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f (db_pool == NULL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msg_fatal("%s(%d), %s: init db pool error", __FILE__, __LINE__, __FUNCTION__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(db_pool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lib_acl/include/db/acl_dbpool.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数据库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SQL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操作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80880" y="6854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数据结构类型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SQL_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查询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SQL_RES *acl_dbsql_select(ACL_DB_HANDLE *handle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onst char *sql, int *error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释放查询结果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dbsql_free_result(ACL_DB_HANDLE *handle, ACL_SQL_RES *res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更新或添加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nt acl_dbsql_update(ACL_DB_HANDLE *handle, const char *sql, int *error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示例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一、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查询过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ACL_DB_POOL* __dbpool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需要提前创建连接池对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nt sql_select_test(voi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const char* sql = “select name, age, pass from user_tbl where age &gt;= 20”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SQL_RES* result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查询结果集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ITER iter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遍历指针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nt   error = 0, n = 0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DB_HANDLE* conn = acl_dbpool_peek(__dbpool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从连接池中获得数据库连接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f (conn == NULL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msg_error(“%s(%d), %s: get connection error”, __FILE__, __LINE__, __FUNCTION__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sult = acl_dbsql_select(conn, sql, &amp;error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进行数据库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查询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f (retsult == NULL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f (error != ACL_DB_OK &amp;&amp; error != ACL_DB_ERR_EMPTY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msg_error(“%s(%d), %s: sql select error: %d”, __FILE__, __LINE__, __FUNCTION__, error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dbpool_close(conn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关闭连接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} els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dbpool_release(conn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归还连接至连接池中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dbpool_release(conn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归还连接至连接池中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foreach(iter, result) {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遍历查询结果集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2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const char** rows = (const char**) iter.data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2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printf(“name: %s, age: %s, pass: %s\r\n”, rows[0], rows[1], rows[2])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2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n++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dbsql_free_result(conn, res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释放查询结果集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n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lib_acl/include/db/acl_dbsql.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更新数据库操作</a:t>
            </a:r>
            <a:br>
              <a:rPr sz="2000"/>
            </a:b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数据库编程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二、数据库 添加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修改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删除 过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ACL_DB_POOL* __dbpool = NULL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需要提前创建连接池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sql_insert_test(voi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char* sql = “insert into user(name, age, pass) values(‘myname’, 29, ‘hello’)”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const char* sql = “update user set age = 30 where name = ‘myname’”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const char* sql = “delete from user where name = ‘myname’”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MYSQL* mysql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 ret, error = 0, n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B_HANDLE* conn = acl_dbpool_peek(__dbpool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从连接池中获得数据库连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conn == NULL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acl_msg_error(“%s(%d), %s: get connection error”, __FILE__, __LINE__, __FUNCTION__)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 = acl_dbsql_update(conn, sql, &amp;error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更新数据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mysql =  (MYSQL*) acl_dbpool_export(conn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从连接对象中导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mysq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连接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n = mysql_affected_rows(mysql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记录更新操作影响的行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bpool_release(conn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释放数据库连接，归还给连接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ret  &lt; 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acl_msg_error(“%s(%d), %s: update db error: %d”, __FILE__, __LINE__, __FUNCTION__, error)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acl_msg_info(“%s(%d), %s: affected: %d”, __FILE__, __LINE__, __FUNCTION__, n)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return re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db/acl_dbsql.h, acl_dbpool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6633"/>
                </a:solidFill>
                <a:latin typeface="Garamond"/>
              </a:rPr>
              <a:t>XML</a:t>
            </a:r>
            <a:r>
              <a:rPr b="0" lang="zh-CN" sz="4000" spc="-1" strike="noStrike">
                <a:solidFill>
                  <a:srgbClr val="006633"/>
                </a:solidFill>
                <a:latin typeface="Garamond"/>
              </a:rPr>
              <a:t>解析库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结构类型及常用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API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函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解析示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树遍历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结点遍历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结点查询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结点属性查询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6633"/>
                </a:solidFill>
                <a:latin typeface="Garamond"/>
              </a:rPr>
              <a:t>XML</a:t>
            </a:r>
            <a:r>
              <a:rPr b="0" lang="zh-CN" sz="4000" spc="-1" strike="noStrike">
                <a:solidFill>
                  <a:srgbClr val="006633"/>
                </a:solidFill>
                <a:latin typeface="Garamond"/>
              </a:rPr>
              <a:t>解析库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数据结构类型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, ACL_XML_NODE, ACL_XML_ATT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创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 *acl_xml_alloc(vo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释放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xml_free(ACL_XML *xml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将一个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对象转换为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xml_foreach_init(ACL_XML *xml, ACL_XML_NODE *nod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重置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（在需要重复使用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时）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xml_reset(ACL_XML *xml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设置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缓存（重复使用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提高效率）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xml_cache(ACL_XML *xml, int max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流式方式解析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据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xml_update(ACL_XML *xml, const char *data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获得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集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 *acl_xml_getElementsByTagName(ACL_XML *xml, const char *tag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 *acl_xml_getElementsByTags(ACL_XML *xml, const char *tags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.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 *acl_xml_getElementsByAttr(ACL_XML *xml, const char *name, const char *valu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.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 *acl_xml_getElementsByName(ACL_XML *xml, const char *valu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根据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获得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NODE *acl_xml_getElementById(ACL_XML *xml, const char *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获得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中的属性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9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ATTR *acl_xml_getElementAttr(ACL_XML_NODE *node, const char *nam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9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ATTR *acl_xml_getAttrById(ACL_XML *xml, const char *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获得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中属性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0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char *acl_xml_getElementAttrVal(ACL_XML_NODE *node, const char *nam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0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NODE *acl_xml_getElementById(ACL_XML *xml, const char *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遍历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1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遍历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树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, ACL_XML*) {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1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遍历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, ACL_XML_NODE*) {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xml/acl_xml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3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Xml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解析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880" y="60912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#include “lib_acl.h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const char *__data = \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"&lt;root id='tt' name=‘xxxx’ value=‘xxxxx’ id=‘id_0001’&gt;hello &lt;root2&gt; hi &lt;/root2&gt;&lt;/root&gt;&lt;br/&gt;\r\n"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void xml_parse_once(ACL_XML* xm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update(xml, __data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更新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器数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acl_xml_is_closure(xml))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检查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器是否获得了完整的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数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printf(“all xml data parse over\r\n”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printf(“some xml data not update\r\n”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void xml_parse_part(ACL_XML* xm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onst char* ptr = __dat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har buf[2]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while (*ptr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buf[0] = *ptr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buf[1] = 0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xml_update(xml, buf);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更新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解析器数据，每次输入一个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字节数据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main(int argc acl_unused, char* argv[] acl_unus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* xml = acl_xml_alloc(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创建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器对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_parse_once(xml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一次性解析整个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数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reset(xml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重置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器状态，以备下一个解析过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_parse_part(xml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流式解析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数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free(xml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释放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器对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xml/acl_xml.h, samples/x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遍历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xml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树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xml_iterator(ACL_XML* xm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ITER iter1, iter2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#define STR acl_vstring_st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#define  LEN ACL_VSTRING_L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从根结点开始遍历 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对象的所有结点 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acl_foreach(iter1, xml) {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NODE *node = (ACL_XML_NODE*) iter1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1; i &lt; node-&gt;depth; i++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"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tag&gt; %s, text: %s\n", STR(node-&gt;ltag), STR(node-&gt;text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的属性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2, node-&gt;attr_list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ATTR *attr = (ACL_XML_ATTR*) iter2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1; i &lt; node-&gt;depth; i++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"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attr&gt; %s: %s\n", STR(attr-&gt;name), STR(attr-&gt;value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动态数组（一）</a:t>
            </a:r>
            <a:br>
              <a:rPr sz="2100"/>
            </a:b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914040"/>
            <a:ext cx="8541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结构定义：</a:t>
            </a: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ACL_ARRA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组创建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* acl_array_create(i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组添加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array_append(ACL_ARRAY*, void*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组访问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_index(ACL_ARRAY*, i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组释放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_free(ACL_ARRAY*, void (*)(void*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举例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 *a = acl_array_create(10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动态数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  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r *bu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0; i &lt; 20; i++) {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循环添加动态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buf = malloc(256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nprintf(buf, 256, “hello: %d”, i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_append(a, bu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0; i &lt; 20; i++) {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查找定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r *ptr = (char*) acl_array_index(a, i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根据数组下标取出元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%s\n”, pt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_free(a, free);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释放动态数组及动态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array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遍历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xml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点的第一级子结点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52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xml_node_iterator(ACL_XML* xm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ITER iter1, iter2, iter3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根结点的一级子结点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1, xml-&gt;root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NODE *node = (ACL_XML_NODE*) iter1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tag&gt; %s, text: %s\n", STR(node-&gt;ltag), STR(node-&gt;text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一级子结点的一级子结点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2, node) {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NODE *node2 = (ACL_XML_NODE*) iter2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tag&gt; %s, text: %s\n", STR(node2-&gt;ltag), STR(node2-&gt;text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一级子结点的属性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3, node2-&gt;attr_list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300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ATTR *attr = (ACL_XML_ATTR*) iter3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300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\tattr&gt; %s: %s\n", STR(attr-&gt;name), STR(attr-&gt;value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遍历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xml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点以及所有的子结点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7621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xml_node_iterator_all(ACL_XML_NODE* nod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 xml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ITER  iter1, iter2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#define STR acl_vstring_st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#define  LEN ACL_VSTRING_L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foreach_init(&amp;xml, node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将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转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树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从根结点开始遍历 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对象的所有结点 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acl_foreach(iter1, xml) {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NODE *node = (ACL_XML_NODE*) iter1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1; i &lt; node-&gt;depth; i++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"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tag&gt; %s, text: %s\n", STR(node-&gt;ltag), STR(node-&gt;text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的属性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2, node-&gt;attr_list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ATTR *attr = (ACL_XML_ATTR*) iter2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1; i &lt; node-&gt;depth; i++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"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attr&gt; %s: %s\n", STR(attr-&gt;name), STR(attr-&gt;value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3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xml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点查询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6854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一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根据标签名获得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集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xml_node_lookup1(ACL_XML* xm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ITER iter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RRAY* 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 = acl_xml_getElementsByTagName(xml, "user"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a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遍历结果集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foreach(iter1, a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NODE *node = (ACL_XML_NODE*) iter1.dat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printf("tag&gt; %s, text: %s\n", STR(node-&gt;ltag), STR(node-&gt;text)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释放数组对象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free_array(a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二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查询属性名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name,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属性值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user2_1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的所有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的集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xml_node_lookup2(ACL_XML* xm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ITER iter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RRAY* 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 = acl_xml_getElementsByName(xml, "user2_1"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a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遍历结果集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foreach(iter1, a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NODE *node = (ACL_XML_NODE*) iter1.dat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printf("tag&gt; %s, text: %s\n", STR(node-&gt;ltag), STR(node-&gt;text)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释放数组对象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free_array(a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XML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点查询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三、从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对象中获得所有的与给定多级标签名相同的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的集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xml_node_lookup3(ACL_XML* xm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RRAY* 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onst char* tags = “root/root2”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 = acl_xml_getElementsByTags(xml, tags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a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ITER iter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foreach(iter, a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NODE* node = (ACL_XML_NODE*) iter.dat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free_array(a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四、从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对象中获得指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d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值的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元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xml_node_lookup4(ACL_XML* xm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#define STR acl_vstring_st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NODE* node = acl_xml_getElementById(xml, "id2_3"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node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printf("-------------- walk %s node -------------------\n", STR(pnode-&gt;ltag)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遍历该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结点的属性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foreach(iter1, pnode-&gt;attr_list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ATTR *attr = (ACL_XML_ATTR*) iter1.dat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printf("\tattr_name: %s, attr_value: %s\n"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R(attr-&gt;name), STR(attr-&gt;value)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Xml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点属性查询</a:t>
            </a:r>
            <a:br>
              <a:rPr sz="2000"/>
            </a:b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void xml_node_attr(ACL_XML_NODE* nod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onst char* ptr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ATTR* attr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tr = acl_xml_getElementAttrVal(node, “name”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根据属性名获得属性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pt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name: %s\r\n”, pt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ttr = acl_xml_getAttrValueById(node-&gt;xml, “id_001”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根据属性唯一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号获得属性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att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id: %s\n”, acl_vstring_str(attr-&gt;value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ttr = acl_xml_getElementAttr(node, “name”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根据属性名获得属性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att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id: %s\n”, acl_vstring_str(attr-&gt;value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JSON</a:t>
            </a: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解析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结构类型及常用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API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函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解析示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树遍历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结点遍历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结点查询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构类型及常用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API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函数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JSON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解析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据结构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JSON, ACL_JSON_N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主要函数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创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对象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JSON *acl_json_alloc(vo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释放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对象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json_free(ACL_JSON *jso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将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转换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树对象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json_foreach_init(ACL_JSON *json, ACL_JSON_NODE *nod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启用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的缓存机制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json_cache(ACL_JSON *json, int max_cach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重置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状态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json_reset(ACL_JSON *jso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流式方式给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输入数据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json_update(ACL_JSON *json, const char *data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获得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根据标签名获得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 *acl_json_getElementsByTagName(ACL_JSON *json, const char *tag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根据多级标签名获得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 *acl_json_getElementsByTags(ACL_JSON *json, const char *tags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释放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集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json_free_array(ACL_ARRAY *a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json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json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解析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685440"/>
            <a:ext cx="822960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const char* default_data = \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{'menu': {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'id': 'file',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'value': 'File',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'popup': {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    'menuitem': [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        {'value': 'New', 'onclick': 'CreateNewDoc()'},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        {'value': 'Open', 'onclick': 'OpenDoc()'},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        {'value': 'Close', 'onclick': 'CloseDoc()'}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    ],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    'menuname': 'hello world'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}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}}\r\n"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void test_json_data(const char* data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JSON* json = acl_json_alloc(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创建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器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onst char* ptr = dat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har  buf[2]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while (*pt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buf[0] = *ptr++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buf[1] =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json_update(json, buf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流式方式输入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数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json-&gt;fini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break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json_free(json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释放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器对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json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树遍历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void test_json_foreach(ACL_JSON* js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ITER iter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#defin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R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ing_st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, json)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所有结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ACL_JSON_NODE* node = (const ACL_JSON_NODE*) iter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nt i = 1; i &lt; node-&gt;depth; i++)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根据结点层级输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"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tag&gt; %s, %s, text: %s, child: %s, type: %s\n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R(node-&gt;ltag), STR(node-&gt;parent-&gt;ltag)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R(node-&gt;text), node-&gt;tag_node ? "yes" : "no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json_node_type(node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json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点遍历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52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void test_json_find1(ACL_JSON* json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onst char* tags = "menu/popup/menuitem"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RRAY* a = acl_json_getElementsByTags(json, tags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获得结点对象集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ITER iter1, iter2, iter3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a == NULL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"&gt;&gt;find: %s\r\n", tags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foreach(iter1, a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JSON_NODE* node1 = (ACL_JSON_NODE*) iter1.data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"%s: %s\r\n", tags, STR(node1-&gt;text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foreach(iter2, node1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JSON_NODE* node2 = (ACL_JSON_NODE*) iter2.data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275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foreach(iter3, node2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275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JSON_NODE* node3 = (ACL_JSON_NODE*) iter3.data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275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"\t%s: %s\r\n", STR(node3-&gt;ltag), STR(node3-&gt;text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275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275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"---------------------------------------------------\r\n"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"&gt;&gt;find %s end\r\n", tags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json_free_array(a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字符串动态数组（二）</a:t>
            </a:r>
            <a:br>
              <a:rPr sz="2100"/>
            </a:b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520" y="914040"/>
            <a:ext cx="8541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0000"/>
                </a:solidFill>
                <a:latin typeface="Arial"/>
              </a:rPr>
              <a:t>结构定义：</a:t>
            </a:r>
            <a:r>
              <a:rPr b="1" lang="zh-CN" sz="1500" spc="-1" strike="noStrike">
                <a:solidFill>
                  <a:srgbClr val="000000"/>
                </a:solidFill>
                <a:latin typeface="Arial"/>
              </a:rPr>
              <a:t>ACL_ARGV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0000"/>
                </a:solidFill>
                <a:latin typeface="Arial"/>
              </a:rPr>
              <a:t>主要函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：方法一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gv_alloc(int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，方法二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gv_split(strin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gv_add(ACL_ARGV*, string, …, NUL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访问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gv_index(ACL_ARGV*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，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销毁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gv_free(ACL_ARGV*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0000"/>
                </a:solidFill>
                <a:latin typeface="Arial"/>
              </a:rPr>
              <a:t>举例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GV *a = acl_argv_split(“hello world, you are welcome; Bye!”, “ ,;!”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分隔字符串，并创建字符串数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 i, siz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gv_add(a, “How”, “old”, “are”, “you”, NULL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向动态数组中添加新的字符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ize = acl_argv_size(a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组中元素个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0; i &lt; size; i++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r *ptr = acl_argv_index(a, i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取出对应下标的字符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%s\n”, pt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gv_free(a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释放字符串数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argv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json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点查询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void test_json_find2(ACL_JSON* json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onst char* tag = "onclick"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ITER iter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RRAY* a = acl_json_getElementsByTagName(json, tag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a == NULL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11960" indent="-3474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foreach(iter, a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11960" indent="-3474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JSON_NODE* node = (ACL_JSON_NODE*) iter.data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326240" indent="-312840">
              <a:spcBef>
                <a:spcPts val="275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"find %s result: %s\r\n", tag, STR(node-&gt;text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json_free_array(a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void test_json_find1(ACL_JSON* json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onst char* tags = "menu/popup/menuname"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RRAY* a = acl_json_getElementsByTags(json, tags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ITER iter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a == NULL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11960" indent="-3474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foreach(iter, a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11960" indent="-3474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JSON_NODE* node = (ACL_JSON_NODE*) iter.data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326240" indent="0"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"find %s result: %s\r\n", tag, STR(node-&gt;text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json_free_array(a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6633"/>
                </a:solidFill>
                <a:latin typeface="Garamond"/>
              </a:rPr>
              <a:t>HTTP</a:t>
            </a:r>
            <a:r>
              <a:rPr b="0" lang="zh-CN" sz="3800" spc="-1" strike="noStrike">
                <a:solidFill>
                  <a:srgbClr val="006633"/>
                </a:solidFill>
                <a:latin typeface="Garamond"/>
              </a:rPr>
              <a:t>协议库</a:t>
            </a:r>
            <a:br>
              <a:rPr sz="38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结构类型及常用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API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函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客户端示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服务端示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构类型及常用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API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函数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53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结构类型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HDR, HTTP_HDR_REQ, HTTP_HDR_RES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REQ, HTTP_RES, HTTP_HDR_ENTRY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，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U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通用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头构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向通用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头中添加数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.1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hdr_put_str(HTTP_HDR *hdr, const char *name, const char *valu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.1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hdr_put_int(HTTP_HDR *hdr, const char *name, int valu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.1.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hdr_put_fmt(HTTP_HDR *hdr, const char *name, const char *fmt, ..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.1.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hdr_put_time(HTTP_HDR *hdr, const char *name, time_t 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根据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生成请求头内容于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BUF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hdr_build_request(const HTTP_HDR_REQ *hdr_req, ACL_VSTRING *strbu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创建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1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分配一个请求头对象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HDR_REQ *http_hdr_req_new(vo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1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根据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等信息创建请求头对象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HDR_REQ *http_hdr_req_create(const char *url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char *method, const char *versio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释放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对象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hdr_req_free(HTTP_HDR_REQ *hh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解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3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http_hdr_req_parse(HTTP_HDR_REQ *hh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3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http_hdr_req_parse3(HTTP_HDR_REQ *hh, int parse_params, int parse_cooki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3.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从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中获得某个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oki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值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onst char *http_hdr_req_cookie_get(HTTP_HDR_REQ *hh, const char *name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3.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从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中取得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的方法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如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 POST, GET, CONN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onst char *http_hdr_req_method(HTTP_HDR_REQ *hh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3.5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从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中获取请求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中某个请求字段的数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onst char *http_hdr_req_param(HTTP_HDR_REQ *hh, const char *name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构类型及常用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API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函数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53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从网络连接读取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数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http_hdr_req_get_sync(HTTP_HDR_REQ *hdr, ACL_VSTREAM *stream, int timeou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创建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体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REQ *http_req_new(HTTP_HDR_REQ *hdr_req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释放请求体对象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req_free(HTTP_REQ *reques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.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从网络连接读取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体数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off_t http_req_body_get_sync(HTTP_REQ *request, ACL_VSTREAM *stream, void *buf, int 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创建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头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HDR_RES *http_hdr_res_new(vo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释放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头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hdr_res_free(HTTP_HDR_RES *hh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.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分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头里的数据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http_hdr_res_parse(HTTP_HDR_RES *hdr_res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.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从网络连接读取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头数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http_hdr_res_get_sync(HTTP_HDR_RES *hdr, ACL_VSTREAM *stream, int timeou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创建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体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RES *http_res_new(HTTP_HDR_RES *hdr_res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释放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体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res_free(HTTP_RES *respon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.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从网络连接读取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体数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off_t http_res_body_get_sync(HTTP_RES *respond, ACL_VSTREAM *stream, void *buf, int 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protocol/include/http/lib_http_struct.h, lib_http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发送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HTT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请求过程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HTT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客户端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http_client_post_request (ACL_VSTREAM* client, const char* url, const char* body, int le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HDR_REQ* hdr_req = http_hdr_req_create(url, “POST”, “HTTP/1.1”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ING* buf = acl_vstring_alloc(256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ruct iovec vector[2]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据数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 re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hdr_put_int(&amp;hdr_req-&gt;hdr, “Content-Length”, len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在请求头中设置请求体的数据长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hdr_build_request(hdr_req, buf);  //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构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数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设置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ector[0].iov_base = acl_vstring_str(bu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ector[0].iov_len = ACL_VSTRING_LEN(bu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设置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ector[1].iov_base = body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ector[1].iov_len = len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 = acl_vstream_writevn(client, vector, 2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发送请求头及请求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hdr_req_free(hdr_req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释放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ing_free(buf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释放缓冲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ret == ACL_VSTREAM_EOF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发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成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3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接收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HTT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响应过程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HTT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客户端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6854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http_client_get_respond (ACL_VSTREAM* cli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_HDR_RES* hdr_res = http_hdr_res_new();  //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创建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响应头对象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_RES* res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char  buf[8192]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nt   re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 = http_hdr_res_get_sync(hdr_res, client, 10 /* IO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超时时间为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10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秒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*/);  //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读取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服务器响应头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f (ret &lt; 0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_hdr_res_free(hdr_res);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释放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响应头对象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解析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响应头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http_hdr_res_parse(hdr_res) &lt; 0) {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出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_hdr_res_free(hdr_res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需要先根据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响应头判断是否有数据体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hdr_res-&gt;hdr.content_length == 0  || (hdr_res-&gt;hdr.content_length == -1 &amp;&amp; !hdr_res-&gt;hdr.chunked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amp;&amp; hdr_res-&gt;reply_status &gt; 300  &amp;&amp; hdr_res-&gt;reply_status &lt; 400)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_hdr_fprint(ACL_VSTREAM_OUT, &amp;hdr_res-&gt;hdr, “--- reply http header ---”); 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调试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_hdr_res_free(hdr_res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0;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s = http_res_new(hdr_res); 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创建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响应体对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 = http_res_body_get_sync(res, client, buf, sizeof(buf) - 1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读数据体数据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f (ret &lt;= 0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0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break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_res_free(res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因为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s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中含有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dr_res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所以会一同连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dr_res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释放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接收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HTT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请求过程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HTT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端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http_server_get_request(ACL_VSTREAM* cli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_HDR_REQ* hdr_req = http_hdr_req_new();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创建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请求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_REQ* req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har  buf[8192]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nt   re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 = http_hdr_req_get_sync(hdr_req, client, 10 /* IO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超时时间为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10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秒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*/);  //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读取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服务器请求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ret &lt; 0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_hdr_req_free(hdr_req);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释放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请求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请求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http_hdr_req_parse(hdr_req) &lt; 0) {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出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_hdr_req_free(hdr_req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hdr_req-&gt;hdr.content_length &lt;= 0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_hdr_req_free(hdr_req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q = http_req_new(hdr_req); 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创建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请求体对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 = http_req_body_get_sync(req, client, buf, sizeof(buf) - 1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读数据体数据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f (ret &lt;= 0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0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break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_req_free(req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因为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q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中含有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dr_req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所以会一同连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dr_req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释放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ret &lt; 0 ? -1 : 0;  // ret == -1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表示没有读完客户端请求数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发送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HTT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响应过程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HTT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端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53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nt http_server_send_respond(ACL_VSTREAM* client, int status, const char* body, int len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nt   re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ruct iovec vector[2]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数据数组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VSTRING* buf = acl_vstring_alloc(256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HTTP_HDR_RES* hdr_res = http_hdr_res_static(status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http_hdr_put_int(&amp;hdr_res-&gt;hdr, “Content-Length”, len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在请求头中设置请求体的数据长度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ttp_hdr_build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(&amp;hdr_res-&gt;hdr, buf);  //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构建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响应头数据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头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ector[0].iov_base = acl_vstring_str(buf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ector[0].iov_len = ACL_VSTRING_LEN(buf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体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ector[1].iov_base = body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ector[1].iov_len = le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 = acl_vstream_writevn(client, vector, 2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发送响应头及响应体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http_hdr_res_free(hdr_res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释放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响应头对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vstring_free(buf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释放缓冲区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ret == ACL_VSTREAM_EOF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发送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响应成功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服务器编程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常用服务器模板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通用控制参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多进程多线程示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常用服务器模板</a:t>
            </a:r>
            <a:br>
              <a:rPr sz="2000"/>
            </a:b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器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8229600" cy="51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多进程模式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接口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single_server_main(int, char **, ACL_SINGLE_SERVER_FN, ..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函数类型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void (*ACL_SINGLE_SERVER_FN) (ACL_VSTREAM *, char *, char **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多进程多线程模式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接口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ioctl_app_main(int argc, char *argv[], ACL_IOCTL_RUN_FN run_fn, void *run_ctx, int name, ..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函数类型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int (*ACL_IOCTL_RUN_FN)(ACL_VSTREAM *stream, void *run_ctx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多进程多线程非阻塞模式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接口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app_main(int argc, char *argv[], ACL_AIO_RUN_FN run_fn, void *run_ctx, int name, ..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函数类型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int (*ACL_AIO_RUN_FN)(ACL_ASTREAM *stream, void *run_ctx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触发器模式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接口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trigger_server_main(int, char **, ACL_TRIGGER_SERVER_FN, ..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函数类型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void (*ACL_TRIGGER_SERVER_FN) (char *, int, char *, char **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队列</a:t>
            </a:r>
            <a:br>
              <a:rPr sz="2100"/>
            </a:b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520" y="914040"/>
            <a:ext cx="8541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0000"/>
                </a:solidFill>
                <a:latin typeface="Arial"/>
              </a:rPr>
              <a:t>结构定义：</a:t>
            </a:r>
            <a:r>
              <a:rPr b="1" lang="zh-CN" sz="1500" spc="-1" strike="noStrike">
                <a:solidFill>
                  <a:srgbClr val="000000"/>
                </a:solidFill>
                <a:latin typeface="Arial"/>
              </a:rPr>
              <a:t>ACL_FIF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0000"/>
                </a:solidFill>
                <a:latin typeface="Arial"/>
              </a:rPr>
              <a:t>主要函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new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：向队列尾部添加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push_back(ACL_FIFO*, void*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向队列头部添加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push_front(ACL_FIFO*, void*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访问：访问队列头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 (void*) acl_fifo_head(ACL_FIFO*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；访问队列尾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  (void*) acl_fifo_tail(ACL_FIFO*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弹出：从尾部弹出对象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(void*) acl_fifo_pop_front(ACL_FIFO*)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，与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push_back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组合为先进先出方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从头部弹出对象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(void*) acl_fifo_pop_back(ACL_FIFO*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，与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push_front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组合为后进先出方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销毁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free(ACL_FIFO*, void (*free_fn)(void*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0000"/>
                </a:solidFill>
                <a:latin typeface="Arial"/>
              </a:rPr>
              <a:t>举例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 *fifo = acl_fifo_new(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队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r *buf, *ptr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 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0; i &lt; size; i++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r *buf = malloc(256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nprintf(buf, 256, “hello: %d”, i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push_back(fifo, buf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向队列中添加元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while ((ptr = (char*) acl_fifo_pop_front(fifo)) != NULL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&gt;&gt;ptr: %s\n”, pt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ree(pt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free(fifo, NULL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因为调用了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pop_xxx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函数，已经将对象从队列中清除，所以不再需要输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用来释放队列中元素的回调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fifo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通用控制参数</a:t>
            </a:r>
            <a:br>
              <a:rPr sz="2000"/>
            </a:b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器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80880" y="1218960"/>
            <a:ext cx="8229600" cy="49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配置控制参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INT_TABL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位整数类配置参数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INT64_TABL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6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位整数类配置参数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STR_TABL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字符串类配置参数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BOOL_TABL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bool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类型配置参数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执行流程控制参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PRE_INI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进程切换用户身份前执行指定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POST_INI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进程切换用户身份后执行指定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EXI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进程退出前执行指定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PRE_ACCEP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在调用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cept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前执行指定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ON_ACCEP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在调用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cept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后执行指定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master/acl_server_api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多进程多线程模板控制参数</a:t>
            </a:r>
            <a:br>
              <a:rPr sz="2000"/>
            </a:b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器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381880" cy="49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配置控制参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L_APP_CTL_CFG_IN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位整数类配置参数表，对应参数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CFG_INT_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CFG_INT6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6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位整数类配置参数表，对应参数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CFG_INT64_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CFG_STR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字符串类配置参数表，对应参数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CFG_STR_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CFG_BOOL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bool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类型配置参数表，对应参数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CFG_BOOL_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执行流程控制参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INIT_FN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程序运行后调用此参数设置的回调函数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函数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void (*ACL_APP_INIT_FN)(void*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EXIT_FN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程序退出前调用此参数设置的回调函数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函数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void (*ACL_APP_EXIT_FN)(void*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THREAD_INI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每个线程开始运行时调用此参数设置的回调函数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函数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void (*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L_APP_THREAD_INIT_FN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)(void *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THREAD_INIT_CTX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设置的参数传递给每个线程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5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THREAD_EXI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每个线程退出前调用此参数设置的回调函数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函数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void (*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L_APP_THREAD_EXIT_FN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)(void *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THREAD_EXIT_CTX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设置的参数传递给每个线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acl_app_main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多进程多线程示例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器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685440"/>
            <a:ext cx="8229600" cy="51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#include “lib_acl.h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void service_init(void *init_ctx acl_unused)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进程启动后调用此回调函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void service_exit(void *arg acl_unused)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进程退出前调用此回调函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int thread_service_main(ACL_VSTREAM *client, void *run_ctx acl_unused)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线程主函数入口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lnSpc>
                <a:spcPct val="8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har  buf[1024]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lnSpc>
                <a:spcPct val="8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nt   re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lnSpc>
                <a:spcPct val="8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  = acl_vstream_read(client, buf, sizeof(buf)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读数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lnSpc>
                <a:spcPct val="8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ret == ACL_VSTREAM_EOF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-32292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-1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返回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-1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知服务器框架关闭该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acl_vstream_writen(client, buf, ret) == ACL_VSTREAM_EOF)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回写数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0;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返回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0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表示可以与客户端保持长连接，若返回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则应用需要在返回前将流关闭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int service_on_accept(ACL_VSTREAM *client)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接收到新连接后调用此回调函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lnSpc>
                <a:spcPct val="8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nt main(int argc, char *argv[]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lnSpc>
                <a:spcPct val="8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ioctl_app_main(argc, argv, thread_service_main, NULL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-32292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PP_CTL_ON_ACCEPT, service_on_accept,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设置有新连接到达后的回调函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-32292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PP_CTL_INIT_FN, service_init,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设置程序初始化回调函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-32292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PP_CTL_EXIT_FN, service_exit,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设置程序退出前的回调函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2326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PP_CTL_CFG_BOOL, var_conf_bool_tab,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设置布尔类型配置参数表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-32292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PP_CTL_CFG_INT, var_conf_int_tab,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设置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位整型配置参数表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-32292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PP_CTL_CFG_STR, var_conf_str_tab,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设置字符串类型参数表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-32292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PP_CTL_END  /*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表示结束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*/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lnSpc>
                <a:spcPct val="8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(0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多进程多线程示例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器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53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配置参数列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r *var_cfg_debug_msg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CFG_STR_TABLE var_conf_str_tab[] =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 "debug_msg", "test_msg", &amp;var_cfg_debug_msg }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 0, 0, 0 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var_cfg_debug_enabl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var_cfg_keep_aliv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CFG_BOOL_TABLE var_conf_bool_tab[] =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 "debug_enable", 1, &amp;var_cfg_debug_enable }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 "keep_alive", 1, &amp;var_cfg_keep_alive }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 0, 0, 0 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var_cfg_io_timeou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CFG_INT_TABLE var_conf_int_tab[] =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 "io_timeout", 120, &amp;var_cfg_io_timeout, 0, 0 }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 0, 0 , 0 , 0, 0 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amples/master/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ioctl_echo3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457200" y="2514240"/>
            <a:ext cx="8229600" cy="361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谢谢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2011.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双向环</a:t>
            </a:r>
            <a:br>
              <a:rPr sz="2100"/>
            </a:b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520" y="914040"/>
            <a:ext cx="8541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结构定义：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ACL_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主要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初始化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ring_init(ACL_RING*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尾部添加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ring_append(ACL_RING*, ACL_RING*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删除链结点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ring_detach(ACL_RING*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弹出结点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(ACL_RING*) acl_ring_pop_head(ACL_RING*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结点转用户对象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ring_to_appl(ACL_RING*, {app_type}, {ring_member}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遍历访问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: acl_ring_foreach(ACL_RING_ITERATOR*, ACL_RING*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举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typedef struct  DUMMY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har buf[256]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nt   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 entry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 DUMMY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ruct DUMMY dummy1, dummy2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_ITERATOR iter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 header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_init(&amp;header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初始化双向环头对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_append(&amp;header, &amp;dummy1.entry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添加结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_append(&amp;header, &amp;dummy2.entry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添加结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_foreach(iter, &amp;header) {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遍历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 *item = iter.ptr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ruct DUMMY *dm = acl_ring_to_appl(item, DUMMY, entry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转换为用户类型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_detach(&amp;dummy1.entry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将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dummy1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结点从双向环中删除掉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lib_acl/include/stdlib/acl_ring.h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哈希表</a:t>
            </a:r>
            <a:br>
              <a:rPr sz="2100"/>
            </a:b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74760" y="911160"/>
            <a:ext cx="85406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结构定义：</a:t>
            </a: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ACL_HT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创建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(ACL_HTABLE*) acl_htable_create(int init_size, unsigned int flag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添加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htable_enter(ACL_HTABLE*,  const char *key, void* obj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查询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(void*) acl_htable_find(ACL_HTABLE*, const char *ke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销毁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htable_free(ACL_HTABLE*, void (*free_fn)(void*)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举例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HTABLE *table = acl_htable_create(10, 0);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哈希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  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r *buf, key[256]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0; i &lt; 20; i++) {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循环添加动态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nprintf(key, sizeof(key), “hello: %d”, i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buf = malloc(256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nprintf(buf, 256, “hello: %d”, i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htable_enter(table, key, buf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向哈希表中添加元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0; i &lt; 20; i++) {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查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nprintf(key, sizeof(key), “hello: %d”, i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buf = (char*) acl_htable_find(table, key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从哈希表中查找元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buf != NUL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%s\n”, bu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htable_free(table, free);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释放哈希表及动态成员变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htable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二分块查找</a:t>
            </a:r>
            <a:br>
              <a:rPr sz="2100"/>
            </a:b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520" y="911160"/>
            <a:ext cx="85410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结构定义：</a:t>
            </a: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ACL_DLINK</a:t>
            </a: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ACL_DITEM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(ACL_DLINK*) acl_dlink_create(int init_siz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htable_enter(ACL_HTABLE*,  const char *key, void* obj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查询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(void*) acl_htable_find(ACL_HTABLE*, const char *ke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销毁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htable_free(ACL_HTABLE*, void (*free_fn)(void*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举例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LINK *dlink = acl_dlink_create(10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二分块查找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多个整数区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link_insert(dlink, 100, 100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link_insert(dlink, 85, 99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link_insert(dlink, 83, 85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link_insert(dlink, 1,50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link_insert(dlink, 50, 60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link_insert(dlink, 59, 80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内部的排列应该为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-80,  83-99, 100-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查找某个整数是否在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link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的整数区间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acl_dlink_lookup(dlink, 49) != NUL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26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printf(“Yes, 49 in dlink range\r\n”)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link_free(dlink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销毁过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dlink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zsx</cp:lastModifiedBy>
  <dcterms:modified xsi:type="dcterms:W3CDTF">2012-03-20T14:19:54Z</dcterms:modified>
  <cp:revision>29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