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9A42-2E84-4990-82F2-C7532F278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3445-BA31-42BA-A120-D5D1ACE9D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8683-29C3-4B30-A7DA-9E6C1A1FF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4FD8-77BB-4B42-A977-F52D223B8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894E8-86A2-49F0-B5A7-9788E90B7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0EA80-E40C-43C7-9154-DC5DA396A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CFFB2-98A9-488B-A802-854E6C0FE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FB153-2342-44DF-A8FD-D1DBFA852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C5A7B-6154-48DE-B733-BF616CC24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657BF-FC5A-4627-A3BE-5D173A23C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578E5-1125-4844-B4C9-7C034BC32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8999-C980-45B7-8F25-9AD49D92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73BE1-B634-4F93-8391-8B4FD912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87531-3B28-447E-A94F-2C7C1930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508C4-FD0B-4E89-AFEC-19CCE9198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0DCA8-7527-4CD4-B5C5-C9223A813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8D944-DEAA-4F24-BFCC-D4F3DAE12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F733-B3AC-4070-A7CB-1897C64AC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664B-3B02-49BF-A75C-52EC538D7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8D7C-E1AA-4D79-B35B-EF0F4DDB7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AFA3-FBA0-44E3-A96B-4119C8E0A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D36C-BCD6-403E-B0AA-E7BE9F0C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DBF2-0958-4905-B8B3-B725AACC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9616-F31D-4559-B1E8-E54AEDDB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B30D7-0DF8-4920-8A6D-29EAD9BA1C7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E91F8-5E1B-4401-8D2C-00BF705AFD1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Acl_cpp</a:t>
            </a: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使用指南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2.3.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目录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sx</cp:lastModifiedBy>
  <dcterms:modified xsi:type="dcterms:W3CDTF">2012-03-22T15:00:4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