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694E-C482-4F7B-813C-2B9BEA4B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DD89-739C-4266-B61B-312D4F63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67AE-0DEA-40DB-9F92-2485CEB21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0B4E-BC0A-4745-938F-ACF6121E1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0A10-BE34-4BD5-B5C8-C2E190192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C2F4-81E8-4A42-A9E2-EEA40482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F201-36E5-47C4-86FF-8C3DF58F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46DF-9E25-4B3D-98A0-C4A573E1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1FBA-52B8-40FF-A9C4-FDA53138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2E7F-D74E-4E39-A435-5FF7730E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A029-4C3F-476B-8A7A-9CC09B03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5B91-910F-49D5-BA79-3C0434FE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F2CB-AE61-4319-A66E-C3E71943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BC81-08F7-4E00-8F5B-91250236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18BE-AD03-4CD6-9584-C04815FC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1DC9-3B7E-4958-9E1E-4313DB147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6E77-98DD-4434-BEF8-8C8D7766A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8A09-5B27-4D5C-91B3-D0C38AE3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AA25-6D1D-4B76-8ADC-4EDB6501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639C-FC93-4213-9C61-9E938EB6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6E1D-FDDF-4737-B626-A7724F96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FD09-990F-49FF-BA06-502C46A7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BF8D-0D4D-4D86-B1D5-0D120E9D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51E3-FDFA-44E8-B2DC-BA59991F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1793-85B1-4072-AF2F-0AA059306E55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4BA0-B52A-4380-89C3-7D98E322E949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CL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库常用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PI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使用介绍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平衡二叉树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vl_tree_t, avl_node_t, av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create(avl_tree_t*, int (*cmp_fn)(const void*, const void*), sizeof(USER_STRUCT), offsetof(USER_STRUCT, node_me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add(avl_tree_t*, USER_STRU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找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USRE_STRUCT*) avl_find(avl_tree_t*, USER_STRUCT*, avl_index_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remove(avl_tree_t*, USER_STRUC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destroy(avl_tree_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node_t entry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cmp_func(const void* n1, const void* n2)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的比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 *d1 = (DUMMY*) n1, *d2 = (DUMMY*) n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(d1-&gt;n – d2-&gt;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, dummy, *dummy_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tree_t tree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create(&amp;tree, cmp_func, sizeof(DUMMY), offsetof(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平衡二叉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1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_ptr = (DUMMY*) avl_find(&amp;tree, &amp;dummy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查找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1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2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destroy(&amp;tree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销毁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vl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通用遍历器</a:t>
            </a:r>
            <a:br>
              <a:rPr sz="1900"/>
            </a:b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使用方法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变量声明                   正向遍历                                                逆向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       acl_foreach(iter, container) {                           acl_foreach_reverse(iter, container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void* ptr = iter.data;                                          void* ptr = iter.da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…                                                                      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   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符合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要求的容器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结构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, ACL_ARGV, ACL_FIFO, ACL_STACK, ACL_DLINK, ACL_HTABLE, ACL_BIN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NS_DB, ACL_IF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, ZDB_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/ACL_XML_NODE, ACL_JSON/ACL_JSON_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struct DUMMY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 buf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 = acl_htable_create(10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 dummy1, dummy2, *dummy_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&amp;dummy1);  acl_array_append(a, &amp;dummy2); 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动态数组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, “key1”, &amp;dummy1); acl_htable_enter(t, “key2”, &amp;dummy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哈希表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动态数组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t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哈希表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, NULL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iterator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网络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底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连接控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高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流读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域名解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杂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异步非阻塞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TCP/IP 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分层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数据封装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底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络套接口监听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listen(const char* addr, int backlog, int block_m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客户端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accept(ACL_SOCKET 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sane_accept(ACL_SOCKET listenfd, struct sockaddr *sa, socklen_t *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=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listenfd = acl_inet_listen(addr, 128, ACL_BLOCKING) 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clientf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fd = acl_inet_accept(listen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== ACL_SOCKET_INVA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域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unix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sane_connect(ACL_SOCKET sock, const struct sockaddr* sa, socklen_t 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OCKET clientfd = acl_inet_connect(addr, ACL_BLOCKING, 6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!= ACL_SOCKET_INVALID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,  acl_listen.h, acl_connec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TC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连接控制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延迟发送开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TCP_NODELAY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nodelay(ACL_SOCKET fd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数据可读接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 TCP_DEFER_ACCEP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defer_accept(ACL_SOCKET listenfd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连接关闭属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SOL_SOCKET/ SO_LINGER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so_linger(ACL_SOCKET fd, int onoff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读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rcv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rcv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写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snd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snd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远程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peer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本地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sock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tcp_ct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高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本地地址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listen(const char *addr, int q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accept(ACL_VSTREAM *listen_stream, char *ipbuf, in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server = acl_vstream_listen(addr, 128)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*cli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serv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 = acl_vstream_accept(server, NULL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立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connect(const char *addr, int block_mo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connect_timeout, int rw_timeout, int rw_buf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client = acl_vstream_connect(addr, ACL_BLOCKING, 60, 60, 819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_ne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流读写接口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不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(ACL_VSTREAM *stream, void *buf, size_t maxl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_nonl(ACL_VSTREAM *stream, void *buf, size_t max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n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从流读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读取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写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写入流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写入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以格式方式写入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cl_vstream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带缓冲方式的写入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刷新写缓冲区里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fflush(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写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write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data = “hello world!\r\n”), *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,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= (int) strlen(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数据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fprintf(client, “hello world\r\n%s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写入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fprintf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n(client, data, 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入定长数据，完全写成功或出错时才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表示出错，之后应该关闭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连接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acl_vstream_write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等效于如下写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tr = 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n &gt;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(client, ptr, 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-=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目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数据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器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读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read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一行数据，尾部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_nonl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行数据，尾部不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n(client, buf, sizeof(buf) –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819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个字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n error: %s”, 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FILE__, __LINE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(client, buf, sizeof(buf) -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只要有数据可读或出错或超时都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 error: %s”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__FILE__, __LINE__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info(“read over now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域名解析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域名解析函数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 *acl_gethostbyname(const char *name, int *h_erro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解析结果内存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netdb_free(ACL_DNS_DB *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domain = “mail.51iker.com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errnu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* dns_db = acl_gethostbyname(domain, &amp;errnum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域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dns_db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an’t get %s’ ip, error: %s\r\n”, domain, acl_netdb_strerror(err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dns_db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域名解析结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HOSTNAME* name = (const ACL_HOSTNAM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p: %s\n”, name-&gt;i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netdb_free(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netdb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编程杂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套接字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SOCKET fd = ACL_VSTREAM_SOCK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远程地址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char* addr = ACL_VSTREAM_PEER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设置流的读写超时时间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VSTREAM_SET_RWTIMO(ACL_VSTREAM*, 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获得本机网卡地址列表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, ACL_IF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函数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网卡集合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 *acl_get_ifaddrs(voi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结果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acl_free_ifaddrs(ACL_IFCONF *ifcon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* ifconf = acl_get_ifaddrs();  //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的所有网卡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(ifconf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oreach(iter, ifconf) { 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遍历网卡地址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ACL_IFADDR* addr = (const ACL_IFADDR*) iter.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rintf(“name: %s, ip: %s\n”, addr-&gt;name, addr-&gt;i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ree_ifaddrs(ifconf);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内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ib_acl/include/stdlib/acl_vstream.h, lib_acl/include/net/acl_ifconf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异步通信框架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AIO, ACL_A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主要函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(int event_mod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2(int event_mode, unsigned int nMs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vent_mode: ACL_EVENT_SELECT, ACL_EVENT_PO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EVENT_KERNEL(epoll/devpool/kqueue/iocp), ACL_EVENT_WMSG(win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循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loop(ACL_AIO *aio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释放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free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通信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open(ACL_AIO *aio, 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完成后关闭异步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iocp_close(ACL_ASTREAM *a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流的参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tl(ACL_ASTREAM *astream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动检查延迟关闭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heck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持续读状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set_keep_read(ACL_AIO *aio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nt64 acl_aio_request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TIMER_FN timer_fn, void *context, acl_int64 idle_limit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取消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int64 acl_aio_cancel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AIO_TIMER_FN timer_fn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b_acl/include/aio/acl_ai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接口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设置异步监听流的回调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accept_callback(ACL_ASTREAM *client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ACCEPT_FN, __accept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二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 __listen_callback(ACL_ASTREAM *sstream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cstream = acl_vstream_accept(acl_aio_vstream(sstream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客户端连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cstream == NU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lient = acl_aio_open(acl_aio_handle(sstream), cstream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客户端连接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LISTEN_FN, __listen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本机支持的内核级异步事件引擎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监听流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异步服务流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读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ypedef int (*ACL_AIO_READ_FN)(ACL_ASTREAM *astream, void *context,  char *data, int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设置读回调函数（可以针对一个客户端同时添加多个回调函数）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add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删除读回调函数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del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一行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_nonl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规定字节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n(ACL_ASTREAM *astream, int coun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读任意长度的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gets_callback(ACL_ASTREAM* client, void* ctx, char* line, int dl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“gets: %s, len: %d\r\n”, line,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strcasecmp(line, “QUIT”) =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完成后关闭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add_read_hook(client, __gets_callback, NUL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流的异步读回调，可以添加多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读一行数据，末尾不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写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int (*ACL_AIO_WRITE_FN)(ACL_ASTREAM *astream, void *contex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添加异步写成功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add_write_hook(ACL_ASTREAM *astream, 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删除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del_write_hook(ACL_ASTREAM *astrea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指定长度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n(ACL_ASTREAM *astream, const char *data, int dle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类似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异步写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fprintf(ACL_ASTREAM *astream, const char *fmt, ...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vfprintf(ACL_ASTREAM *astream, const char *fmt, va_list a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一组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v(ACL_ASTREAM *astream, const struct iovec *vector, int coun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write to peer ok\r\n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写的回调函数，可添加多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refer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引用计数，防止在下面的写操作过程中提前关闭流，因为下面还有写操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writen(client, “hello\r\n”, sizeof(“hello\r\n”) – 1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unrefer(client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恢复引用计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fprintf(client, “How are you\r\n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远程连接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ONNECT_FN)(ACL_ASTREAM *c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异步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connect(ACL_AIO *aio, const char *saddr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e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connect(ACL_AIO* aio, const char* add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* client = acl_aio_connect(aio, addr, 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读写超时及关闭回调接口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超时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TIMEO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关闭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LOSE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读写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负值通知框架关闭该异步注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gt;= 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继续等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set_callback(ACL_ASTREAM* client, int time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client, ACL_AIO_CTL_TIMEOUT, timeou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_TIMEO_FN, __timeout_callback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accep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，并且自动去掉末尾的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打开异步监听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loop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事件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动态数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队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堆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双向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哈希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二分块查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衡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快速匹配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通用遍历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read_callback(ACL_ASTREAM* client, void* ctx, char* data, int d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gets: %s\n”, 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strcasecmp(data, “quit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异步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else if (strcasecmp(data, “stop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stop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%s\r\n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read timeout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close now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const char* mydata = “connection!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且不带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hello world, %s\r\n”, my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SELEC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一个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timeout = 1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= acl_aio_connect(aio, addr, timeou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引擎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数据库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连接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操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连接池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, ACL_DB_HANDLE, ACL_DB_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创建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acl_dbpool_create(const char *db_type, const ACL_DB_INFO *db_info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销毁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destroy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从连接池获取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HANDLE *acl_dbpool_peek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转为实际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*acl_dbpool_export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归还连接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relea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手动关闭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clo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创建连接池对象，实际上并不连接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 dbconn_init(const char* dbaddr, const char* dbname, const char* dbuser, const char* dbpas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dbpool_max, int dbping, int dbtimeo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POOL *db_poo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INFO db_inf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初始化连接池的参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memset(&amp;db_info, 0, sizeof(ACL_DB_INFO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addr, dbaddr, sizeof(db_info.db_add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地址，如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tmp/mysql.sock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27.0.0.1:33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name, dbname, sizeof(db_info.db_name)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名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user, dbuser, sizeof(db_info.db_use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pass, dbpass, sizeof(db_info.db_pass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密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db_max = dbpool_max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最大连接个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ping_inter = dbping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探测每个连接的时间间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timeout_inter = dbtimeou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每个连接的最长空闲时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auto_commit = 1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自动提交修改过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pool = acl_dbpool_create(“mysql”, &amp;db_info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连接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db_pool == NUL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fatal("%s(%d), %s: init db pool error"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(db_pool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poo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SQ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操作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 *acl_dbsql_select(ACL_DB_HANDLE *hand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释放查询结果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sql_free_result(ACL_DB_HANDLE *handle, ACL_SQL_RES *re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或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acl_dbsql_update(ACL_DB_HANDLE *handle, 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ACL_DB_POOL* __dbpool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sql_select_test(vo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onst char* sql = “select name, age, pass from user_tbl where age &gt;= 20”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QL_RES* resul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指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error = 0, n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sult = acl_dbsql_select(conn, sql, &amp;error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进行数据库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sult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error != ACL_DB_OK &amp;&amp; error != ACL_DB_ERR_EMPTY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sql select error: %d”, __FILE__, __LINE__, __FUNCTION__, erro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clo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foreach(iter, result) {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const char** rows = (const char**) iter.d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printf(“name: %s, age: %s, pass: %s\r\n”, rows[0], rows[1], rows[2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sql_free_result(conn, res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sq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更新数据库操作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编程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二、数据库 添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 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ACL_DB_POOL* __dbpool = NULL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sql_insert_test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sql = “insert into user(name, age, pass) values(‘myname’, 29, ‘hello’)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update user set age = 30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delete from user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* mysq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, error = 0,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dbsql_update(conn, sql, &amp;error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新数据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=  (MYSQL*) acl_dbpool_export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对象中导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 = mysql_affected_rows(mysq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录更新操作影响的行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数据库连接，归还给连接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 &l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update db error: %d”, __FILE__, __LINE__, __FUNCTION__, error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info(“%s(%d), %s: affected: %d”, __FILE__, __LINE__, __FUNCTION__, n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return re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db/acl_dbsql.h, acl_dbpoo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属性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, ACL_XML_NODE, ACL_XML_AT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*acl_xml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xml_free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一个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对象转换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foreach_init(ACL_XML *xml, ACL_XML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（在需要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时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reset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缓存（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提高效率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cache(ACL_XML *xml, int m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解析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update(ACL_XML *xml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Name(ACL_XML *xml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s(ACL_XML *xml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Attr(ACL_XML *xml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Name(ACL_XML *xml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的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ElementAttr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Attr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acl_xml_getElementAttrVal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_NODE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const char *__data =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"&lt;root id='tt' name=‘xxxx’ value=‘xxxxx’ id=‘id_0001’&gt;hello &lt;root2&gt; hi &lt;/root2&gt;&lt;/root&gt;&lt;br/&gt;\r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once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update(xml, __data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xml_is_closure(xml)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检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是否获得了完整的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all xml data parse over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some xml data not update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part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__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0] = *pt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xml_update(xml, buf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器数据，每次输入一个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字节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main(int argc acl_unused, char* argv[] acl_un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* xml = acl_xml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onc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次性解析整个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rese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重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状态，以备下一个解析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par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, samples/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动态数组（一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ARR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* acl_array_create(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array_append(ACL_ARRAY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index(ACL_ARRAY*, 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释放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CL_ARRAY*, void (*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定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(char*) acl_array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数组下标取出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动态数组及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ray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的第一级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根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1, xml-&gt;roo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) {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2 = (ACL_XML_NODE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tag&gt; %s, text: %s\n", STR(node2-&gt;ltag), STR(node2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3, node2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3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以及所有的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_all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xm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foreach_init(&amp;xml, node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标签名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1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Name(xml, "user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属性名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ame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属性值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ser2_1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所有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2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Name(xml, "user2_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三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所有的与给定多级标签名相同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3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tags = “root/root2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s(xml, tag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(ACL_XML_NODE*) iter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四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指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4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acl_xml_getElementById(xml, "id2_3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nod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-------------- walk %s node -------------------\n", STR(pnode-&gt;ltag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pnode-&gt;attr_list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ATTR *attr = (ACL_XML_ATTR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\tattr_name: %s, attr_value: %s\n"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R(attr-&gt;name), STR(attr-&gt;value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属性查询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node_attr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* at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tr = acl_xml_getElementAttrVal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p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name: %s\r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AttrValueById(node-&gt;xml, “id_001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唯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ElementAttr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JSON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JSON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结构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, ACL_JSON_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要函数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 *acl_json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json_free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换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oreach_init(ACL_JSON *json, ACL_JSON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启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的缓存机制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cache(ACL_JSON *json, int max_cach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状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reset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给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输入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update(ACL_JSON *json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标签名获得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Name(ACL_JSON *json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多级标签名获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s(ACL_JSON *json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ree_array(ACL_ARRAY *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jso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const char* default_data =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{'menu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id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value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popup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item': [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New', 'onclick': 'CreateNew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Open', 'onclick': 'Open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Close', 'onclick': 'CloseDoc()'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]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name': 'hello world'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}}\r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test_json_data(const char*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* json = acl_json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0] = *ptr++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update(json, buf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方式输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json-&gt;fini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free(json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json_foreach(ACL_JSON* j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json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JSON_NODE* node = (const ACL_JSON_NOD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nt i = 1; i &lt; node-&gt;depth; i++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结点层级输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%s, text: %s, child: %s, type: %s\n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ltag), STR(node-&gt;parent-&gt;ltag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text), node-&gt;tag_node ? "yes" : "no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_node_type(nod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item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获得结点对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: %s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1 = (ACL_JSON_NODE*) iter1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%s: %s\r\n", tags, STR(node1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2, node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2 = (ACL_JSON_NODE*) iter2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3, node2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3 = (ACL_JSON_NODE*) iter3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\t%s: %s\r\n", STR(node3-&gt;ltag), STR(node3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---------------------------------------------------\r\n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 %s end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字符串动态数组（二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ARG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方法一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lloc(in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方法二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split(st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CL_ARGV*, string, …,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index(ACL_ARGV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CL_ARGV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 *a = acl_argv_split(“hello world, you are welcome; Bye!”, “ ,;!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隔字符串，并创建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,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, “How”, “old”, “are”, “you”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动态数组中添加新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ze = acl_argv_siz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中元素个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acl_argv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取出对应下标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gv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2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 = "onclick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Name(json, tag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name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协议库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客户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, HTTP_HDR_REQ, HTTP_HDR_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, HTTP_RES, HTTP_HDR_EN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构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向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中添加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str(HTTP_HDR *hdr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int(HTTP_HDR *hdr, const char *name, int 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fmt(HTTP_HDR *hdr, const char *name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time(HTTP_HDR *hdr, const char *name, time_t 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生成请求头内容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build_request(const HTTP_HDR_REQ *hdr_req, ACL_VSTRING *str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配一个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信息创建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create(const char *ur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method, const char *versi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q_fre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解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3(HTTP_HDR_REQ *hh, int parse_params, int parse_cooki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得某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oki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cookie_get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取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的方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 POST, GET, 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method(HTTP_HDR_REQ *hh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取请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某个请求字段的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param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get_sync(HTTP_HDR_REQ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 *http_req_new(HTTP_HDR_REQ *hdr_req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请求体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q_free(HTTP_REQ *reques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q_body_get_sync(HTTP_REQ *request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S *http_hdr_res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s_free(HTTP_HDR_RES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里的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parse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get_sync(HTTP_HDR_RES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S *http_res_new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s_free(HTTP_RES *respon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s_body_get_sync(HTTP_RES *respond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protocol/include/http/lib_http_struct.h, lib_http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post_request (ACL_VSTREAM* client, const char* url, const char* body, int 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* hdr_req = http_hdr_req_create(url, “POST”, “HTTP/1.1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put_int(&amp;hdr_req-&gt;hdr, “Content-Length”, le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build_request(hdr_req, buf);  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请求头及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_free(hdr_req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成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get_respond 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* hdr_res = http_hdr_res_new(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RES* r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hdr_res_get_sync(hdr_res, client, 10 /* IO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服务器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s_parse(hdr_res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先根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头判断是否有数据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s-&gt;hdr.content_length == 0  || (hdr_res-&gt;hdr.content_length == -1 &amp;&amp; !hdr_res-&gt;hdr.chunke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amp;&amp; hdr_res-&gt;reply_status &gt; 300  &amp;&amp; hdr_res-&gt;reply_status &lt; 400)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fprint(ACL_VSTREAM_OUT, &amp;hdr_res-&gt;hdr, “--- reply http header ---”); 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调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= http_res_new(hdr_res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s_body_get_sync(res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s_free(res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server_get_request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* hdr_req = http_hdr_req_new(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* req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= http_hdr_req_get_sync(hdr_req, client, 10 /* IO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_free(hdr_req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q_parse(hdr_req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q-&gt;hdr.content_length &lt;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= http_req_new(hdr_req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q_body_get_sync(req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_free(req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ret &lt; 0 ? -1 : 0;  // ret == 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没有读完客户端请求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http_server_send_respond(ACL_VSTREAM* client, int status, const char* body, int 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* hdr_res = http_hdr_res_static(statu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put_int(&amp;hdr_res-&gt;hdr, “Content-Length”, le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_hdr_build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(&amp;hdr_res-&gt;hdr, buf);  //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响应头及响应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_free(hdr_re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成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服务器模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通用控制参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多进程多线程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常用服务器模板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single_server_main(int, char **, ACL_SINGLE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SINGLE_SERVER_FN) (ACL_VSTREAM *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ioctl_app_main(int argc, char *argv[], ACL_IOCTL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IOCTL_RUN_FN)(ACL_V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非阻塞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pp_main(int argc, char *argv[], ACL_AIO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RUN_FN)(ACL_A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触发器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rigger_server_main(int, char **, ACL_TRIGGER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TRIGGER_SERVER_FN) (char *, int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队列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FI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ne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向队列尾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头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访问队列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(void*) acl_fifo_head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访问队列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 (void*) acl_fifo_tail(ACL_FIFO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弹出：从尾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front(ACL_FIFO*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先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头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back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后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ACL_FIFO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 *fifo = acl_fifo_new(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队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*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fifo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(ptr = (char*) acl_fifo_pop_front(fifo)) !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&gt;&gt;ptr: 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ree(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fifo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为调用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op_xxx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，已经将对象从队列中清除，所以不再需要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来释放队列中元素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fif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通用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64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STR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BOOL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OST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退出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ON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master/acl_server_api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模板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CTL_CFG_I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INT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64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运行后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IN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EX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开始运行时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acl_app_mai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init(void *init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启动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exit(void *arg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退出前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thread_service_main(ACL_VSTREAM *client, void *run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线程主函数入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1024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 = acl_vstream_read(client, buf, sizeof(buf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知服务器框架关闭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vstream_writen(client, buf, ret) == ACL_VSTREAM_EOF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回写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可以与客户端保持长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应用需要在返回前将流关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service_on_accept(ACL_VSTREAM *client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到新连接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har *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octl_app_main(argc, argv, thread_service_main, NUL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ON_ACCEPT, service_on_accep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有新连接到达后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INIT_FN, service_in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初始化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XIT_FN, service_ex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退出前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BOOL, var_conf_bool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布尔类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INT, var_conf_int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位整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STR, var_conf_str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字符串类型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ND  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结束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参数列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var_cfg_debug_ms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 var_conf_str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msg", "test_msg", &amp;var_cfg_debug_msg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debug_enab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keep_ali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 var_conf_bool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enable", 1, &amp;var_cfg_debug_enabl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keep_alive", 1, &amp;var_cfg_keep_aliv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io_timeou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 var_conf_int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io_timeout", 120, &amp;var_cfg_io_timeout, 0, 0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 , 0 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mples/master/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ioctl_ech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双向环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CL_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初始化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init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尾部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append(ACL_RING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链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detach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弹出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RING*) acl_ring_pop_head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转用户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to_appl(ACL_RING*, {app_type}, {ring_member}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访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: acl_ring_foreach(ACL_RING_ITERATOR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entr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TERATO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head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nit(&amp;head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初始化双向环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2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foreach(iter, &amp;header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*item = iter.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*dm = acl_ring_to_appl(item, 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转换为用户类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detach(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结点从双向环中删除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ring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哈希表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91116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HT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HTABLE*) acl_htable_create(int init_size, unsigned int fla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able = acl_htable_create(10, 0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key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able, key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哈希表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(char*) acl_htable_find(table, key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哈希表中查找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buf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able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哈希表及动态成员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htable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二分块查找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54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LINK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I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ACL_DLINK*) acl_dlink_create(int init_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 *dlink = acl_dlink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二分块查找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多个整数区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00, 100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5, 99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3, 8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,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0, 6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9, 8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部的排列应该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80,  83-99, 100-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某个整数是否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in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整数区间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cl_dlink_lookup(dlink, 49)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printf(“Yes, 49 in dlink range\r\n”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free(dlink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dlink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0T14:19:54Z</dcterms:modified>
  <cp:revision>2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