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22D-C21D-4BA9-B72B-6D1CC55E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BDE-F791-4042-A982-15754A84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F20-0E0F-4931-A74F-B303FA83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E29-0A97-4C6C-9DC8-E3F125944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8196-5FD2-40D1-A84B-A32D6A3D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0DEA-5402-4A31-A63C-E5DC98EA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190E-0C6C-469F-8516-7DB4D8C8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FC7-A715-41DC-AFBC-24D9757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CBCF-9110-4BD1-BF00-DEB3931F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74CC-9F9C-42C1-84FA-2998AF26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B6B1-B007-4DE3-8BEE-9EAE388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AF1-8680-46DA-A828-01B18350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212A-7D8C-4FCC-BE71-8865F1E0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8316-E9F9-47E2-B2AF-818AB00D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654B-4D81-4E15-B2C4-326BC3C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D357-F97A-4428-85CD-917C91B60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3838-C7AC-49DB-9F15-AE28A2115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162-0061-43CC-B00A-A7BB3A9B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470-518F-4502-8B48-B669FD49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98C-387D-4F56-A576-EB8BF665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D109-E0C4-4045-B348-55A8266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4F3-AD50-4655-8A6A-400396CE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282D-A815-4A1D-80FD-A7A49719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E89-BD2E-441C-8173-6FECBC6B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0D69-4604-4A54-9443-63A9EF40AE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5971-1FD6-45D0-8D8A-DFC63A60BF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Acl_cpp</a:t>
            </a:r>
            <a:r>
              <a:rPr b="1" lang="zh-CN" sz="4800" spc="-1" strike="noStrike">
                <a:solidFill>
                  <a:srgbClr val="330066"/>
                </a:solidFill>
                <a:latin typeface="Arial"/>
              </a:rPr>
              <a:t>使用指南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2.3.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330066"/>
                </a:solidFill>
                <a:latin typeface="Arial"/>
              </a:rPr>
              <a:t>目录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2T15:00:4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