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E0F8-ACB5-4FBB-AC0B-F1A180B4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D4B6-FCBD-46C2-8320-7FFD44B3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0108-792E-4700-B774-92207B7A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BFE4-0A95-4BE2-AF96-A10CC92A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6F1E-7113-477D-AC53-FA0479F4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ABA3-17B4-4932-93D9-0DCBF93C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DA6C-BD41-4208-802F-CBE2CAA7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36A4-2B39-4203-A21D-CB7468EB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0078-D841-491D-9EEB-1DA97CA8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237E-F819-4EAB-94F6-A4227718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B60C-4373-459E-8D34-79B7B583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A0E9-8A67-47D7-A8A1-1DB5100C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EF57-C22C-4ED9-A2E4-B8A297C4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C6F8-93A1-47BF-8329-FD80BF99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A996-8C73-4E95-9AFE-5233C13E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3CEA-AC4E-4181-B803-2857B0ED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5E55-A274-4A52-8CA6-0792666B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6868-F3FF-4B5B-B7C8-E9541B18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F70-0BFD-40B4-A9AE-A896871D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97B5-054C-4823-82B7-4C3D5F04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CC25-F9CD-4BB3-AF65-0298E0D2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B654-B657-4F63-A327-0EF59ACA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424E-EDA7-4888-BE4C-923E687E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3832-D0BF-4CA8-8461-EAFA719D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E6CD-A582-4409-A414-E9736AC04456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AEE1-365B-432B-BD4B-EB535C23CF14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CL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库常用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API</a:t>
            </a:r>
            <a:r>
              <a:rPr b="0" lang="zh-CN" sz="5400" spc="-1" strike="noStrike">
                <a:solidFill>
                  <a:srgbClr val="006633"/>
                </a:solidFill>
                <a:latin typeface="方正舒体"/>
                <a:ea typeface="方正舒体"/>
              </a:rPr>
              <a:t>使用介绍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平衡二叉树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vl_tree_t, avl_node_t, av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create(avl_tree_t*, int (*cmp_fn)(const void*, const void*), sizeof(USER_STRUCT), offsetof(USER_STRUCT, node_me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add(avl_tree_t*, USER_STRU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找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USRE_STRUCT*) avl_find(avl_tree_t*, USER_STRUCT*, avl_index_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remove(avl_tree_t*, USER_STRUC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vl_destroy(avl_tree_t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node_t entry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cmp_func(const void* n1, const void* n2)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的比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 *d1 = (DUMMY*) n1, *d2 = (DUMMY*) n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(d1-&gt;n – d2-&gt;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, dummy, *dummy_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tree_t tree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create(&amp;tree, cmp_func, sizeof(DUMMY), offsetof(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平衡二叉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1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add(&amp;tree, &amp;dummy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_ptr = (DUMMY*) avl_find(&amp;tree, &amp;dummy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查找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1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.n = dummy2.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remove(&amp;tree, &amp;dumm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删除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vl_destroy(&amp;tree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销毁平衡二叉树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vl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通用遍历器</a:t>
            </a:r>
            <a:br>
              <a:rPr sz="1900"/>
            </a:b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19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使用方法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变量声明                   正向遍历                                                逆向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       acl_foreach(iter, container) {                           acl_foreach_reverse(iter, container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void* ptr = iter.data;                                          void* ptr = iter.data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…                                                                      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                                                                      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符合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ACL_ITER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要求的容器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结构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, ACL_ARGV, ACL_FIFO, ACL_STACK, ACL_DLINK, ACL_HTABLE, ACL_BIN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网络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NS_DB, ACL_IFCON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库部分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, ZDB_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/ACL_XML_NODE, ACL_JSON/ACL_JSON_N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struct DUMMY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 buf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 = acl_htable_create(10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 dummy1, dummy2, *dummy_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&amp;dummy1);  acl_array_append(a, &amp;dummy2); 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动态数组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, “key1”, &amp;dummy1); acl_htable_enter(t, “key2”, &amp;dummy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结点至哈希表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动态数组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t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哈希表中的所有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ummy_ptr = (DUMMY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dummy_ptr-&gt;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, NULL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iterator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网络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/I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底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连接控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较为高层的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流读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域名解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杂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异步非阻塞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TCP/IP 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分层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数据封装</a:t>
            </a:r>
            <a:br>
              <a:rPr sz="2400"/>
            </a:b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---TCP/IP</a:t>
            </a: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协议基础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底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网络套接口监听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listen(const char* addr, int backlog, int block_m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客户端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accept(ACL_SOCKET 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sane_accept(ACL_SOCKET listenfd, struct sockaddr *sa, socklen_t *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=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listenfd = acl_inet_listen(addr, 128, ACL_BLOCKING) 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clientf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listen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fd = acl_inet_accept(listen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== ACL_SOCKET_INVAL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inet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域服务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 acl_unix_connect(const char* addr, int block_mode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sane_connect(ACL_SOCKET sock, const struct sockaddr* sa, socklen_t 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OCKET clientfd = acl_inet_connect(addr, ACL_BLOCKING, 6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fd != ACL_SOCKET_INVALID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socket_close(clientfd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,  acl_listen.h, acl_connec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TC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连接控制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延迟发送开关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TCP_NODELAY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nodelay(ACL_SOCKET fd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数据可读接收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IPPROTO_TCP/ TCP_DEFER_ACCEP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defer_accept(ACL_SOCKET listenfd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连接关闭属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SOL_SOCKET/ SO_LINGER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tcp_so_linger(ACL_SOCKET fd, int onoff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读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rcv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rcv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套接口写缓冲区大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cp_set_sndbuf(ACL_SOCKET fd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acl_tcp_get_sndbuf(ACL_SOCKET f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远程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peer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本地连接的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getsockname(ACL_SOCKET sockfd, char *buf, size_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tcp_ct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较为高层的网络编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服务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监听本地地址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listen(const char *addr, int q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收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accept(ACL_VSTREAM *listen_stream, char *ipbuf, int b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server = acl_vstream_listen(addr, 128) 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服务器监听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, *cli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sert(serv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lient = acl_vstream_accept(server, NULL, 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待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tin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客户端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客户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建立远程连接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 *acl_vstream_connect(const char *addr, int block_mo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connect_timeout, int rw_timeout, int rw_buf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* client = acl_vstream_connect(addr, ACL_BLOCKING, 60, 60, 819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g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eam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_net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流读写接口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不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(ACL_VSTREAM *stream, void *buf, size_t maxlen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按行读数据，去掉末尾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gets_nonl(ACL_VSTREAM *stream, void *buf, size_t max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n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从流读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读取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read(ACL_VSTREAM *stream, char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写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个字节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一次性写入流操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实际写入的字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write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以格式方式写入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 acl_vstream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带缓冲方式的写入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fprintf(ACL_VSTREAM *stream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vfprintf(ACL_VSTREAM *stream, const char *fmt, va_list a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buffed_writen(ACL_VSTREAM *stream, const void *vptr, size_t dle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刷新写缓冲区里的数据（阻塞方式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vstream_fflush(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vstream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写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30592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write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data = “hello world!\r\n”), *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,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= (int) strlen(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数据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fprintf(client, “hello world\r\n%s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写入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fprintf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n(client, data, 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写入定长数据，完全写成功或出错时才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表示出错，之后应该关闭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连接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acl_vstream_write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等效于如下写过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tr = 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n &gt;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(client, ptr, 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write to client error: %s”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n -=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目录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数据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网络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协议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器编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网络流读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read(ACL_V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_SET_RWTIMO(client, 60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写超时时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一行数据，尾部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gets_nonl(client, buf, sizeof(buf)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完整行数据，尾部不含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gets error: %s”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FILE__, __LINE__, __FUNCTION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n(client, buf, sizeof(buf) –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读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819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个字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n error: %s”, 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FILE__, __LINE__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read(client, buf, sizeof(buf) - 1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只要有数据可读或出错或超时都返回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error(“%s(%d), %s: read error: %s”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-303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__FILE__, __LINE__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msg_info(“read over now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vstream.h; samples/vstr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域名解析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域名解析函数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 *acl_gethostbyname(const char *name, int *h_erro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解析结果内存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netdb_free(ACL_DNS_DB *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domain = “mail.51iker.com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errnu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NS_DB* dns_db = acl_gethostbyname(domain, &amp;errnum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域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dns_db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an’t get %s’ ip, error: %s\r\n”, domain, acl_netdb_strerror(errnum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dns_db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域名解析结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HOSTNAME* name = (const ACL_HOSTNAM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p: %s\n”, name-&gt;i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netdb_free(dns_db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net/acl_netdb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33"/>
                </a:solidFill>
                <a:latin typeface="Garamond"/>
              </a:rPr>
              <a:t>网络编程杂项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套接字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SOCKET fd = ACL_VSTREAM_SOCK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从流中获得远程地址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char* addr = ACL_VSTREAM_PEER(ACL_VSTREAM*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设置流的读写超时时间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VSTREAM_SET_RWTIMO(ACL_VSTREAM*, in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获得本机网卡地址列表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, ACL_IFAD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函数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网卡集合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 *acl_get_ifaddrs(voi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结果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void acl_free_ifaddrs(ACL_IFCONF *ifconf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FCONF* ifconf = acl_get_ifaddrs();  //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获得本机的所有网卡地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If (ifconf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oreach(iter, ifconf) { 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遍历网卡地址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onst ACL_IFADDR* addr = (const ACL_IFADDR*) iter.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printf(“name: %s, ip: %s\n”, addr-&gt;name, addr-&gt;ip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free_ifaddrs(ifconf); //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释放内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ib_acl/include/stdlib/acl_vstream.h, lib_acl/include/net/acl_ifconf.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异步通信框架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结构定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CL_AIO, ACL_ASTR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主要函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(int event_mode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 *acl_aio_create2(int event_mode, unsigned int nMs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vent_mode: ACL_EVENT_SELECT, ACL_EVENT_PO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EVENT_KERNEL(epoll/devpool/kqueue/iocp), ACL_EVENT_WMSG(win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循环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loop(ACL_AIO *aio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释放异步句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free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创建异步通信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open(ACL_AIO *aio, ACL_VSTREAM *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异步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完成后关闭异步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iocp_close(ACL_ASTREAM *astream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流的参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tl(ACL_ASTREAM *astream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动检查延迟关闭连接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check(ACL_AIO *aio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持续读状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set_keep_read(ACL_AIO *aio, int onof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设置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nt64 acl_aio_request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TIMER_FN timer_fn, void *context, acl_int64 idle_limit)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取消异步定时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int64 acl_aio_cancel_timer(ACL_AIO *ai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L_AIO_TIMER_FN timer_fn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ib_acl/include/aio/acl_ai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接口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设置异步监听流的回调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一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accept_callback(ACL_ASTREAM *client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ACCEPT_FN, __accept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方法二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 __listen_callback(ACL_ASTREAM *sstream, void *contex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cstream = acl_vstream_accept(acl_aio_vstream(sstream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客户端连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cstream == NUL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lient = acl_aio_open(acl_aio_handle(sstream), cstream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客户端连接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do_something(client, contex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ACL_ASTREAM *, ACL_AIO_CTL_LISTEN_FN, __listen_callback, ACL_AIO_CTL_CTX, xxx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本机支持的内核级异步事件引擎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将监听流转为异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异步服务流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读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typedef int (*ACL_AIO_READ_FN)(ACL_ASTREAM *astream, void *context,  char *data, int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设置读回调函数（可以针对一个客户端同时添加多个回调函数）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add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删除读回调函数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del_read_hook(ACL_ASTREAM *astream, ACL_AIO_READ_FN callback, void *ctx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一行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gets_nonl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异步读规定字节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n(ACL_ASTREAM *astream, int count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读任意长度的数据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aio_read(ACL_ASTREAM *astream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gets_callback(ACL_ASTREAM* client, void* ctx, char* line, int dl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“gets: %s, len: %d\r\n”, line, dlen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strcasecmp(line, “QUIT”) =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O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完成后关闭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add_read_hook(client, __gets_callback, NUL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流的异步读回调，可以添加多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读一行数据，末尾不带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写操作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int (*ACL_AIO_WRITE_FN)(ACL_ASTREAM *astream, void *contex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添加异步写成功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add_write_hook(ACL_ASTREAM *astream, 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删除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del_write_hook(ACL_ASTREAM *astrea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WRITE_FN callback, void *ctx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指定长度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n(ACL_ASTREAM *astream, const char *data, int dlen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类似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格式异步写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fprintf(ACL_ASTREAM *astream, const char *fmt, ...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vfprintf(ACL_ASTREAM *astream, const char *fmt, va_list ap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）异步写一组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oid acl_aio_writev(ACL_ASTREAM *astream, const struct iovec *vector, int count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write to peer ok\r\n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do_something(ACL_ASTREAM* clien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写的回调函数，可添加多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refer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引用计数，防止在下面的写操作过程中提前关闭流，因为下面还有写操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writen(client, “hello\r\n”, sizeof(“hello\r\n”) – 1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acl_aio_unrefer(client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恢复引用计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fprintf(client, “How are you\r\n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接口—远程连接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ONNECT_FN)(ACL_ASTREAM *c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连接成功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connect_hook(ACL_ASTREAM *astream, ACL_AIO_CONNECT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异步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 *acl_aio_connect(ACL_AIO *aio, const char *saddr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示例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o_somethine(clie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connect(ACL_AIO* aio, const char* add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STREAM* client = acl_aio_connect(aio, addr, 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读写超时及关闭回调接口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回调函数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超时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TIMEO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关闭回调接口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CLOSE_FN)(ACL_ASTREAM *astream, void *contex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添加读写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dd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删除超时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del_timeo_hook(ACL_ASTREAM *astream, ACL_AIO_TIMEO_FN callback, void *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负值通知框架关闭该异步注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gt;= 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继续等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set_callback(ACL_ASTREAM* client, int timeou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(client, ACL_AIO_CTL_TIMEOUT, timeou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CTL_TIMEO_FN, __timeout_callback, ACL_AIO_CTL_EN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accep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流的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，并且自动去掉末尾的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KERNE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sstream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EAM* server = acl_vstream_listen(“127.0.0.1:8080”, 128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监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sert(server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stream = acl_aio_open(aio, serv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打开异步监听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ctl(sstream, ACL_AIO_CTL_ACCEPT_FN, __accept_callback, ACL_AIO_CTL_END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loop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事件循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事件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动态数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队列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堆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双向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哈希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二分块查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平衡二叉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cc9900"/>
                </a:solidFill>
                <a:latin typeface="Arial"/>
              </a:rPr>
              <a:t>快速匹配树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通用遍历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read_callback(ACL_ASTREAM* client, void* ctx, char* data, int d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gets: %s\n”, dat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strcasecmp(data, “quit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io_iocp_close(client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关闭异步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else if (strcasecmp(data, “stop”) == 0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__stop =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%s\r\n”, 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writ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timeout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read timeout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int __close_callback(ACL_ASTREAM* client, void* ctx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lient close now\r\n”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例子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非阻塞网络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761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stop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__connect_callback(ACL_ASTREAM* client, void* ct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const char* mydata = “connection!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read_hook(client, __read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读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write_hook(client, __write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异步写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gets_nonl(clien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读一行数据且不带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\r\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printf(client, “hello world, %s\r\n”, mydata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写一行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onst char* 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addr = “127.0.0.1:8080”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* aio = acl_aio_create(ACL_EVENT_SELEC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创建一个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STREAM* clien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timeout = 1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lient = acl_aio_connect(aio, addr, timeout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异步连接服务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client == NULL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“connect %s error(%s)\r\n”, addr, acl_last_serror(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add_connect_hook(client, __connect_callback, NULL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流异步连接的回调函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__sto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io_loop(aio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异步引擎循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io_free(aio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异步引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数据库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连接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数据库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操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连接池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, ACL_DB_HANDLE, ACL_DB_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创建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acl_dbpool_create(const char *db_type, const ACL_DB_INFO *db_info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销毁连接池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destroy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从连接池获取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HANDLE *acl_dbpool_peek(ACL_DB_POOL *db_poo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转为实际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*acl_dbpool_export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将连接对象归还连接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relea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手动关闭连接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pool_close(ACL_DB_HANDLE *db_handl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创建连接池对象，实际上并不连接数据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DB_POOL * dbconn_init(const char* dbaddr, const char* dbname, const char* dbuser, const char* dbpas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dbpool_max, int dbping, int dbtimeou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POOL *db_poo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INFO db_info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初始化连接池的参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memset(&amp;db_info, 0, sizeof(ACL_DB_INFO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addr, dbaddr, sizeof(db_info.db_add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地址，如：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tmp/mysql.sock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27.0.0.1:33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name, dbname, sizeof(db_info.db_name)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user, dbuser, sizeof(db_info.db_user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AFE_STRNCPY(db_info.db_pass, dbpass, sizeof(db_info.db_pass)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数据库帐号密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db_max = dbpool_max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最大连接个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ping_inter = dbping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探测每个连接的时间间隔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timeout_inter = dbtimeou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每个连接的最长空闲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info.auto_commit = 1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自动提交修改过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db_pool = acl_dbpool_create(“mysql”, &amp;db_info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连接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db_pool == NUL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fatal("%s(%d), %s: init db pool error"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(db_pool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poo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SQ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操作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SQL_RES *acl_dbsql_select(ACL_DB_HANDLE *handle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释放查询结果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acl_dbsql_free_result(ACL_DB_HANDLE *handle, ACL_SQL_RES *re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或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acl_dbsql_update(ACL_DB_HANDLE *handle, const char *sql, int *err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ACL_DB_POOL* __dbpool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sql_select_test(voi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onst char* sql = “select name, age, pass from user_tbl where age &gt;= 20”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SQL_RES* result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ITER iter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指针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error = 0, n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sult = acl_dbsql_select(conn, sql, &amp;error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进行数据库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查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sult == NULL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error != ACL_DB_OK &amp;&amp; error != ACL_DB_ERR_EMPTY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msg_error(“%s(%d), %s: sql select error: %d”, __FILE__, __LINE__, __FUNCTION__, error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clo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关闭连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 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归还连接至连接池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foreach(iter, result) {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遍历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const char** rows = (const char**) iter.data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printf(“name: %s, age: %s, pass: %s\r\n”, rows[0], rows[1], rows[2]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n++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dbsql_free_result(conn, res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查询结果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n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lib_acl/include/db/acl_dbsql.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更新数据库操作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数据库编程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二、数据库 添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修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删除 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ACL_DB_POOL* __dbpool = NULL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需要提前创建连接池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sql_insert_test(vo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* sql = “insert into user(name, age, pass) values(‘myname’, 29, ‘hello’)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update user set age = 30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const char* sql = “delete from user where name = ‘myname’”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* mysq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, error = 0, 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_HANDLE* conn = acl_dbpool_peek(__dbpoo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池中获得数据库连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conn =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get connection error”, __FILE__, __LINE__, __FUNCTION__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dbsql_update(conn, sql, &amp;error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新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=  (MYSQL*) acl_dbpool_export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连接对象中导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ysq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连接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 = mysql_affected_rows(mysq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记录更新操作影响的行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bpool_release(con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数据库连接，归还给连接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 &lt; 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error(“%s(%d), %s: update db error: %d”, __FILE__, __LINE__, __FUNCTION__, error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msg_info(“%s(%d), %s: affected: %d”, __FILE__, __LINE__, __FUNCTION__, n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return re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db/acl_dbsql.h, acl_dbpoo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属性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4000" spc="-1" strike="noStrike">
                <a:solidFill>
                  <a:srgbClr val="006633"/>
                </a:solidFill>
                <a:latin typeface="Garamond"/>
              </a:rPr>
              <a:t>解析库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数据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, ACL_XML_NODE, ACL_XML_AT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*acl_xml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xml_free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一个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对象转换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foreach_init(ACL_XML *xml, ACL_XML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（在需要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时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reset(ACL_XML *xml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缓存（重复使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提高效率）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cache(ACL_XML *xml, int ma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解析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xml_update(ACL_XML *xml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Name(ACL_XML *xml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Tags(ACL_XML *xml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Attr(ACL_XML *xml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xml_getElementsByName(ACL_XML *xml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的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ElementAttr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cl_xml_getAttr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中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acl_xml_getElementAttrVal(ACL_XML_NODE *node, const char *nam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0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acl_xml_getElementById(ACL_XML *xml, const char *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ACL_XML_NODE*) {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6091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const char *__data = \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"&lt;root id='tt' name=‘xxxx’ value=‘xxxxx’ id=‘id_0001’&gt;hello &lt;root2&gt; hi &lt;/root2&gt;&lt;/root&gt;&lt;br/&gt;\r\n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once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update(xml, __data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xml_is_closure(xml)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检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是否获得了完整的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all xml data parse over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printf(“some xml data not update\r\n”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parse_part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_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0] = *ptr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acl_xml_update(xml, buf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更新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器数据，每次输入一个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字节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main(int argc acl_unused, char* argv[] acl_un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* xml = acl_xml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onc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次性解析整个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rese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重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状态，以备下一个解析过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_parse_part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(xml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xml/acl_xml.h, samples/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动态数组（一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ARR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* acl_array_create(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array_append(ACL_ARRAY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index(ACL_ARRAY*, 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释放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CL_ARRAY*, void (*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 = acl_array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动态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append(a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定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(char*) acl_array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数组下标取出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_free(a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动态数组及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ray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的第一级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(ACL_XML*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根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1, xml-&gt;roo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一级子结点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) {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2 = (ACL_XML_NODE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tag&gt; %s, text: %s\n", STR(node2-&gt;ltag), STR(node2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一级子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3, node2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3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3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遍历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以及所有的子结点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xml_node_iterator_all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 xm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 iter1, iter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  LEN ACL_VSTRING_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foreach_init(&amp;xml, node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从根结点开始遍历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对象的所有结点 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acl_foreach(iter1, xml) {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2, node-&gt;attr_list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 *attr = (ACL_XML_ATTR*) iter2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1; i &lt; node-&gt;depth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attr&gt; %s: %s\n", STR(attr-&gt;name), 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标签名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1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Name(xml, "user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二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属性名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name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属性值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ser2_1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所有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2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Name(xml, "user2_1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结果集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 *node = (ACL_XML_NODE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tag&gt; %s, text: %s\n", STR(node-&gt;ltag), STR(node-&gt;text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数组对象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三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所有的与给定多级标签名相同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的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3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RRAY*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tags = “root/root2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 = acl_xml_getElementsByTags(xml, tags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(ACL_XML_NODE*) iter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free_array(a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四、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对象中获得指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的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void xml_node_lookup4(ACL_XML* xm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define STR acl_vstring_st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NODE* node = acl_xml_getElementById(xml, "id2_3"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nod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-------------- walk %s node -------------------\n", STR(pnode-&gt;ltag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xml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的属性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foreach(iter1, pnode-&gt;attr_list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XML_ATTR *attr = (ACL_XML_ATTR*) iter1.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printf("\tattr_name: %s, attr_value: %s\n"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R(attr-&gt;name), STR(attr-&gt;value)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Xml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属性查询</a:t>
            </a:r>
            <a:br>
              <a:rPr sz="2000"/>
            </a:b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xml_node_attr(ACL_XML_NODE* no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XML_ATTR* at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tr = acl_xml_getElementAttrVal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p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name: %s\r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AttrValueById(node-&gt;xml, “id_001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唯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号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ttr = acl_xml_getElementAttr(node, “name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属性名获得属性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tt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id: %s\n”, acl_vstring_str(attr-&gt;valu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JSON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解析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树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遍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点查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JSON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结构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, ACL_JSON_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主要函数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 *acl_json_alloc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acl_json_free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转换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oreach_init(ACL_JSON *json, ACL_JSON_NODE *nod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启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的缓存机制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cache(ACL_JSON *json, int max_cach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重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状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reset(ACL_JSON *js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流式方式给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器输入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update(ACL_JSON *json, const char *dat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获得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标签名获得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Name(ACL_JSON *json, const char *tag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多级标签名获得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RAY *acl_json_getElementsByTags(ACL_JSON *json, const char *tag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点集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json_free_array(ACL_ARRAY *a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jso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解析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const char* default_data = \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{'menu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id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value': 'File'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'popup': {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item': [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New', 'onclick': 'CreateNew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Open', 'onclick': 'OpenDoc()'}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    {'value': 'Close', 'onclick': 'CloseDoc()'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],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    'menuname': 'hello world'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    }\r\n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"}}\r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test_json_data(const char* 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* json = acl_json_alloc(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* ptr = 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*pt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0] = *ptr++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uf[1]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update(json, buf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流式方式输入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json-&gt;fini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4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json_free(json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器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树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atic void test_json_foreach(ACL_JSON* j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#defin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st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oreach(iter, json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遍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json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所有结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ACL_JSON_NODE* node = (const ACL_JSON_NODE*) iter.d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nt i = 1; i &lt; node-&gt;depth; i++)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结点层级输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\t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"tag&gt; %s, %s, text: %s, child: %s, type: %s\n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ltag), STR(node-&gt;parent-&gt;ltag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(node-&gt;text), node-&gt;tag_node ? "yes" : "no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3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json_node_type(node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遍历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item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获得结点对象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1, iter2, iter3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: %s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1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1 = (ACL_JSON_NODE*) iter1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%s: %s\r\n", tags, STR(node1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2, node1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2 = (ACL_JSON_NODE*) iter2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3, node2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3 = (ACL_JSON_NODE*) iter3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275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\t%s: %s\r\n", STR(node3-&gt;ltag), STR(node3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---------------------------------------------------\r\n"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&gt;&gt;find %s end\r\n"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字符串动态数组（二）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ARG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方法一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lloc(int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方法二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split(st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CL_ARGV*, string, …,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index(ACL_ARGV*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CL_ARGV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 *a = acl_argv_split(“hello world, you are welcome; Bye!”, “ ,;!”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隔字符串，并创建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, siz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add(a, “How”, “old”, “are”, “you”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动态数组中添加新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ize = acl_argv_siz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组中元素个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ptr = acl_argv_index(a, i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取出对应下标的字符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rgv_free(a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字符串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argv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json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点查询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2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 = "onclick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Name(json, tag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275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atic void test_json_find1(ACL_JSON* js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onst char* tags = "menu/popup/menuname"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ARRAY* a = acl_json_getElementsByTags(json, tag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ITE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a == NUL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foreach(iter, a)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NODE* node = (ACL_JSON_NODE*) iter.data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spcBef>
                <a:spcPts val="2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printf("find %s result: %s\r\n", tag, STR(node-&gt;text)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json_free_array(a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3800" spc="-1" strike="noStrike">
                <a:solidFill>
                  <a:srgbClr val="006633"/>
                </a:solidFill>
                <a:latin typeface="Garamond"/>
              </a:rPr>
              <a:t>协议库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结构类型及常用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函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客户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服务端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类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, HTTP_HDR_REQ, HTTP_HDR_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, HTTP_RES, HTTP_HDR_ENTR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构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向通用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中添加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str(HTTP_HDR *hdr, const char *name, const char *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int(HTTP_HDR *hdr, const char *name, int valu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fmt(HTTP_HDR *hdr, const char *name, const char *fmt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1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put_time(HTTP_HDR *hdr, const char *name, time_t 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生成请求头内容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build_request(const HTTP_HDR_REQ *hdr_req, ACL_VSTRING *str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配一个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根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等信息创建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 *http_hdr_req_create(const char *ur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nst char *method, const char *version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q_fre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解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(HTTP_HDR_REQ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parse3(HTTP_HDR_REQ *hh, int parse_params, int parse_cooki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得某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ooki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值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cookie_get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取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的方法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: POST, GET, 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method(HTTP_HDR_REQ *hh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中获取请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某个请求字段的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onst char *http_hdr_req_param(HTTP_HDR_REQ *hh, const char *name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结构类型及常用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API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函数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q_get_sync(HTTP_HDR_REQ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Q *http_req_new(HTTP_HDR_REQ *hdr_req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请求体对象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q_free(HTTP_REQ *reques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q_body_get_sync(HTTP_REQ *request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S *http_hdr_res_new(vo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hdr_res_free(HTTP_HDR_RES *h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分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里的数据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parse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hdr_res_get_sync(HTTP_HDR_RES *hdr, ACL_VSTREAM *stream, int timeou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创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RES *http_res_new(HTTP_HDR_RES *hdr_res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释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http_res_free(HTTP_RES *respon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从网络连接读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响应体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off_t http_res_body_get_sync(HTTP_RES *respond, ACL_VSTREAM *stream, void *buf, int size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protocol/include/http/lib_http_struct.h, lib_http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post_request (ACL_VSTREAM* client, const char* url, const char* body, int l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* hdr_req = http_hdr_req_create(url, “POST”, “HTTP/1.1”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put_int(&amp;hdr_req-&gt;hdr, “Content-Length”, len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build_request(hdr_req, buf);  //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请求头及请求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_hdr_req_free(hdr_req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头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请求成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客户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client_get_respond 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* hdr_res = http_hdr_res_new(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创建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RES* r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hdr_res_get_sync(hdr_res, client, 10 /* IO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服务器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响应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s_parse(hdr_res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需要先根据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头判断是否有数据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s-&gt;hdr.content_length == 0  || (hdr_res-&gt;hdr.content_length == -1 &amp;&amp; !hdr_res-&gt;hdr.chunked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amp;&amp; hdr_res-&gt;reply_status &gt; 300  &amp;&amp; hdr_res-&gt;reply_status &lt; 400)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fprint(ACL_VSTREAM_OUT, &amp;hdr_res-&gt;hdr, “--- reply http header ---”); 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调试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s_free(hdr_res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= http_res_new(hdr_res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响应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s_body_get_sync(res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s_free(res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s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接收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请求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http_server_get_request(ACL_VSTREAM* cli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* hdr_req = http_hdr_req_new(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* req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819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= http_hdr_req_get_sync(hdr_req, client, 10 /* IO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超时时间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秒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  //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取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服务器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&lt;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hdr_req_free(hdr_req)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ttp_hdr_req_parse(hdr_req) &lt; 0) {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解析出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hdr_req-&gt;hdr.content_length &lt;= 0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http_hdr_req_free(hdr_req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= http_req_new(hdr_req); 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请求体对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ret = http_req_body_get_sync(req, client, buf, sizeof(buf) - 1);  //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读数据体数据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2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if (ret &lt;= 0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20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ttp_req_free(req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因为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中含有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所以会一同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hdr_req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释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ret &lt; 0 ? -1 : 0;  // ret == 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没有读完客户端请求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发送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响应过程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HTTP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端示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http_server_send_respond(ACL_VSTREAM* client, int status, const char* body, int le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iovec vector[2]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数据数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* buf = acl_vstring_alloc(256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* hdr_res = http_hdr_res_static(status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put_int(&amp;hdr_res-&gt;hdr, “Content-Length”, len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在请求头中设置请求体的数据长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ttp_hdr_build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(&amp;hdr_res-&gt;hdr, buf);  //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构建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数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base = acl_vstring_str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0].iov_len = ACL_VSTRING_LEN(buf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设置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base = bod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vector[1].iov_len = le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 = acl_vstream_writevn(client, vector, 2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响应头及响应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_hdr_res_free(hdr_res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vstring_free(buf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释放缓冲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发送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HTTP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响应成功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服务器模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通用控制参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多进程多线程示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常用服务器模板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229600" cy="51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single_server_main(int, char **, ACL_SINGLE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SINGLE_SERVER_FN) (ACL_VSTREAM *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ioctl_app_main(int argc, char *argv[], ACL_IOCTL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IOCTL_RUN_FN)(ACL_V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多进程多线程非阻塞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aio_app_main(int argc, char *argv[], ACL_AIO_RUN_FN run_fn, void *run_ctx, int name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int (*ACL_AIO_RUN_FN)(ACL_ASTREAM *stream, void *run_ctx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触发器模式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接口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void acl_trigger_server_main(int, char **, ACL_TRIGGER_SERVER_FN, ..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函数类型定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TRIGGER_SERVER_FN) (char *, int, char *, char *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队列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ACL_FIF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new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向队列尾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头部添加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(ACL_FIFO*, void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访问：访问队列头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(void*) acl_fifo_head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；访问队列尾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  (void*) acl_fifo_tail(ACL_FIFO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弹出：从尾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front(ACL_FIFO*)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先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头部弹出对象，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fifo_pop_back(ACL_FIFO*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与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fron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组合为后进先出方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ACL_FIFO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 *fifo = acl_fifo_new(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队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*pt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size; i++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ush_back(fifo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队列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ile ((ptr = (char*) acl_fifo_pop_front(fifo)) != NULL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&gt;&gt;ptr: %s\n”, 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ree(pt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free(fifo, NULL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调用了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fifo_pop_xxx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，已经将对象从队列中清除，所以不再需要输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用来释放队列中元素的回调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fifo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通用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INT64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STR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BOOL_TABL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OST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切换用户身份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进程退出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PRE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前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MASTER_SERVER_ON_ACCE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在调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cep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后执行指定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master/acl_server_api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模板控制参数</a:t>
            </a:r>
            <a:br>
              <a:rPr sz="2000"/>
            </a:b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38188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配置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CTL_CFG_IN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INT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位整数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64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STR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字符串类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CFG_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oo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类型配置参数表，对应参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）执行流程控制参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运行后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IN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程序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ACL_APP_EXIT_FN)(void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开始运行时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IN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IN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每个线程退出前调用此参数设置的回调函数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函数类型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ypedef void (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_APP_THREAD_EXIT_FN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)(void *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APP_CTL_THREAD_EXIT_CTX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设置的参数传递给每个线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acl_app_main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#include “lib_acl.h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init(void *init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启动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void service_exit(void *arg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进程退出前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thread_service_main(ACL_VSTREAM *client, void *run_ctx acl_unused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线程主函数入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char  buf[1024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  re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  = acl_vstream_read(client, buf, sizeof(buf))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读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ret == ACL_VSTREAM_EO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-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知服务器框架关闭该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f (acl_vstream_writen(client, buf, ret) == ACL_VSTREAM_EOF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回写数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可以与客户端保持长连接，若返回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则应用需要在返回前将流关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static int service_on_accept(ACL_VSTREAM *client)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收到新连接后调用此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int main(int argc, char *argv[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{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ioctl_app_main(argc, argv, thread_service_main, NULL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ON_ACCEPT, service_on_accep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有新连接到达后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INIT_FN, service_in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初始化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XIT_FN, service_exit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程序退出前的回调函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BOOL, var_conf_bool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布尔类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INT, var_conf_int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位整型配置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CFG_STR, var_conf_str_tab,  //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设置字符串类型参数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0320" indent="-32292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APP_CTL_END  /*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示结束 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*/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lnSpc>
                <a:spcPct val="80000"/>
              </a:lnSpc>
              <a:spcBef>
                <a:spcPts val="2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return (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多进程多线程示例 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000" spc="-1" strike="noStrike">
                <a:solidFill>
                  <a:srgbClr val="006633"/>
                </a:solidFill>
                <a:latin typeface="Garamond"/>
              </a:rPr>
              <a:t>服务器编程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置参数列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var_cfg_debug_msg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STR_TABLE var_conf_str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msg", "test_msg", &amp;var_cfg_debug_msg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debug_enab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keep_ali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BOOL_TABLE var_conf_bool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debug_enable", 1, &amp;var_cfg_debug_enabl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keep_alive", 1, &amp;var_cfg_keep_alive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var_cfg_io_timeou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CFG_INT_TABLE var_conf_int_tab[] =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"io_timeout", 120, &amp;var_cfg_io_timeout, 0, 0 }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{ 0, 0 , 0 , 0, 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mples/master/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ioctl_echo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011.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双向环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ACL_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主要函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初始化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init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尾部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append(ACL_RING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删除链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detach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弹出结点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RING*) acl_ring_pop_head(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结点转用户对象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ring_to_appl(ACL_RING*, {app_type}, {ring_member}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遍历访问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: acl_ring_foreach(ACL_RING_ITERATOR*, ACL_RING*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typedef struct  DUMMY {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char buf[256]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int   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entr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 DUMMY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dummy1, dummy2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TERATOR it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heade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init(&amp;header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初始化双向环头对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append(&amp;header, &amp;dummy2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添加结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foreach(iter, &amp;header) {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遍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 *item = iter.ptr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struct DUMMY *dm = acl_ring_to_appl(item, DUMMY, 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转换为用户类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2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acl_ring_detach(&amp;dummy1.entry);  //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将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dummy1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结点从双向环中删除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lib_acl/include/stdlib/acl_ring.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哈希表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4760" y="91116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HT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ACL_HTABLE*) acl_htable_create(int init_size, unsigned int flag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 *table = acl_htable_create(10, 0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哈希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t    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char *buf, key[256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循环添加动态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malloc(25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buf, 256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table, key, buf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向哈希表中添加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for (i = 0; i &lt; 20; i++) {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nprintf(key, sizeof(key), “hello: %d”, 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f = (char*) acl_htable_find(table, key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从哈希表中查找元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buf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printf(“%s\n”, buf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table, free);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释放哈希表及动态成员变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htable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二分块查找</a:t>
            </a:r>
            <a:br>
              <a:rPr sz="2100"/>
            </a:b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---</a:t>
            </a:r>
            <a:r>
              <a:rPr b="0" lang="zh-CN" sz="2100" spc="-1" strike="noStrike">
                <a:solidFill>
                  <a:srgbClr val="006633"/>
                </a:solidFill>
                <a:latin typeface="Garamond"/>
              </a:rPr>
              <a:t>常用数据结构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911160"/>
            <a:ext cx="8541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结构定义：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LINK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ACL_DI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</a:rPr>
              <a:t>主要函数</a:t>
            </a: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CL_DLINK*) acl_dlink_create(int init_siz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enter(ACL_HTABLE*,  const char *key, void* obj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询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void*) acl_htable_find(ACL_HTABLE*, const char *k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htable_free(ACL_HTABLE*, void (*free_fn)(void*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举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 *dlink = acl_dlink_create(10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创建二分块查找对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多个整数区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00, 100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5, 99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83, 85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1,5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0, 6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insert(dlink, 59, 80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部的排列应该为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-80,  83-99, 100-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查找某个整数是否在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link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整数区间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f (acl_dlink_lookup(dlink, 49) != NU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000000"/>
                </a:solidFill>
                <a:latin typeface="Arial"/>
              </a:rPr>
              <a:t>printf(“Yes, 49 in dlink range\r\n”)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acl_dlink_free(dlink);  //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销毁过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ib_acl/include/stdlib/acl_dlink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sx</cp:lastModifiedBy>
  <dcterms:modified xsi:type="dcterms:W3CDTF">2012-03-20T14:19:54Z</dcterms:modified>
  <cp:revision>29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