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694-7207-426B-97E2-ED622764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F0F-3C9D-4695-AE58-DEF28892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C66-A460-46D4-A7E0-248066BA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0B6-6B4B-42F7-9013-969BF476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C3D4-8076-4ADF-8FD3-5E6FE246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4FE5-3976-4B9B-8882-ABB2B1A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DC84-3D48-48F8-95AD-92E7C06E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CB6B-260E-469D-853A-C9CDEB5D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4A9E-564B-4B50-9E5F-AE822737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27CB-556B-4527-B9D8-E2428C8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A0CF-8937-48AB-B292-EE1EA812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DBD-996B-4E40-A5FE-67E4CB3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2B48-68B6-48F7-A1C4-489D4B0C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8EB0-5578-436C-B9CB-EE7B9A3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CACB-2E53-47B5-A659-CAB5A66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FE8-2415-4E97-A6BF-1B6FBB1F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4794-EF98-4681-9A4C-F139AD36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FEA-9DB0-4139-A492-B6852DCE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25D-0E4A-490B-B91B-9CF6B541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7D8-B602-4CAA-942E-BD4777F8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F52-B44A-465C-B94D-95773F30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6EB-7322-438E-9738-645D6CB3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A4A-6C10-4DC1-9206-DF67360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7DD-9E4B-42B8-810B-B8A1A2C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6BC-A006-412B-AC7F-7DB299AA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66996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CEF3-165F-4361-BF40-D63C9761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3"/>
          <p:cNvSpPr/>
          <p:nvPr/>
        </p:nvSpPr>
        <p:spPr>
          <a:xfrm>
            <a:off x="1100160" y="31240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dae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1:40:30Z</dcterms:created>
  <dc:creator/>
  <dc:description/>
  <cp:keywords/>
  <dc:language>en-US</dc:language>
  <cp:lastModifiedBy>Chris Sadler</cp:lastModifiedBy>
  <cp:lastPrinted>2010-08-18T16:54:53Z</cp:lastPrinted>
  <dcterms:modified xsi:type="dcterms:W3CDTF">2018-11-23T10:20:39Z</dcterms:modified>
  <cp:revision>251</cp:revision>
  <dc:subject/>
  <dc:title>PowerPoint Presentation</dc:title>
</cp:coreProperties>
</file>