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9C4-78B8-4DA6-9EAE-6078AA09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A32-3C50-416B-B7BD-09E06072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738-CE6E-4A6A-A5DE-103A9D0A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66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24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66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24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339-D1E4-4958-BD99-BF543A06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03CB-ABD7-4353-8234-521114D3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DBCD-F936-43F8-BABF-4094A158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037A-DFB4-413E-906D-80FF920E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0F58-7851-405B-8F74-BB8C5A40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D7C8-608F-442E-9907-3B5DF447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420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1336-528E-4FD3-99DD-DC9BD0B4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56D4-4CCC-4C6C-A656-4F4817F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318-FDF6-4826-829E-09C3BDA1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90D0-512B-4702-9878-CEA0B9C3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70DF-497B-4F67-9852-3132C0F0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556C-1C01-4D55-A957-99667103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F696-128A-4E75-AE84-C6CA09DC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966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24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966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124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63C4-A322-479D-BA07-6A5B3A2F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892-3812-4500-AC23-EA804439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F9D-5621-4148-B74C-52064326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57F-C5FE-4336-83B2-6A756BFD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420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CA9-AA04-4452-9E27-C83D471A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C38-7DCB-471E-BA41-D758C89D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1F4-1D38-48ED-8EFF-8F4FC550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C45-CA8D-44F3-AF78-1554824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D228-E299-474A-BEC2-68A64CC7A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66996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3AC0-9D67-44B4-AFD4-F341C8EE7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3"/>
          <p:cNvSpPr/>
          <p:nvPr/>
        </p:nvSpPr>
        <p:spPr>
          <a:xfrm>
            <a:off x="1100160" y="31240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dae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1:40:30Z</dcterms:created>
  <dc:creator/>
  <dc:description/>
  <cp:keywords/>
  <dc:language>en-US</dc:language>
  <cp:lastModifiedBy>Chris Sadler</cp:lastModifiedBy>
  <cp:lastPrinted>2010-08-18T16:54:53Z</cp:lastPrinted>
  <dcterms:modified xsi:type="dcterms:W3CDTF">2018-11-23T10:20:39Z</dcterms:modified>
  <cp:revision>251</cp:revision>
  <dc:subject/>
  <dc:title>PowerPoint Presentation</dc:title>
</cp:coreProperties>
</file>