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AFBB6-F785-445C-A0D7-4316173A4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83B0A-ADC9-4596-A7EE-ED9FB0F9C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57B6D-2261-4609-9B7F-E51290B92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AB876-C714-4E3B-A1DE-347C87DFE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6760C-DBAA-4F33-B36D-F113085EB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B8C17-61AA-44C5-A9DF-E16492D46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07B68-7BBF-4AC3-9BC1-C32D38311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53C46-B4CC-4CC6-A3DA-49B1BE8DF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0EE5E-C56F-41D8-A231-2783608C5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ECC1-3BD1-4AA0-A47A-404CC076D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E964-67EB-4475-AD84-C647DA233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3FDF1-A0B1-4237-9230-E38006DF2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FC89-6A78-4128-BE8C-73C65091E9AE}" type="datetime">
              <a:rPr b="0" lang="ru-RU" sz="1800" spc="-1" strike="noStrike">
                <a:solidFill>
                  <a:srgbClr val="000000"/>
                </a:solidFill>
                <a:latin typeface="Arial"/>
              </a:rPr>
              <a:t>31.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DC3A-E01A-4FCF-B702-16464D88F31D}"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