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AA9A2-358B-46F0-AF12-67B588138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884F-1504-4BAB-A1A8-DBF96AA8F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CE892-E729-4707-8ABE-102422DA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FCCC6-94C2-4AFE-9D07-5F4AF156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FCB37-7407-4F66-90EF-8E0846E5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2817-381D-4267-80B2-F0E4839B3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E7A49-9A37-43C5-B054-9242337A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16280-D624-43FF-B7DC-F12560E62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C54BF-4C86-4808-9F71-B57A52A8F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2BAF8-1E2E-4BCA-812D-50AC23F9A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CBA5E-D3EF-4731-A068-4D2834261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6B4C2-EDFE-40E4-85F1-AB1FBD9ED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3F47-0FCA-4C6F-A457-4C84AD7E2C43}" type="datetime">
              <a:rPr b="0" lang="ru-RU" sz="1800" spc="-1" strike="noStrike">
                <a:solidFill>
                  <a:srgbClr val="000000"/>
                </a:solidFill>
                <a:latin typeface="Arial"/>
              </a:rPr>
              <a:t>28.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42EE-8AC0-4C3B-997E-2674E217881F}"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