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BA38B-127C-435D-976D-1EAE753A3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65B16-1454-4C52-9F20-1FB1F6065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7EDB5-0C7D-4788-BDE3-AD32AE69C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A4BEA-96A4-4678-AD64-07366C818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6FCE8-28A6-42F7-8567-4BF42D699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400E2-031A-4A42-B407-674292369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F3510-F880-4029-BBC2-16CD2AE8E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30098-9902-4A61-B2D6-CD734C105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481AF-165C-4CE0-9177-9B940293A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B4635-F8F8-4774-833B-F6EB73C39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CA270-6C84-4B07-AF08-FD8E09F83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13391-2B64-43A5-A002-F1C043406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9828-50B5-4ECD-924E-4228BA415AFE}" type="datetime">
              <a:rPr b="0" lang="ru-RU" sz="1800" spc="-1" strike="noStrike">
                <a:solidFill>
                  <a:srgbClr val="000000"/>
                </a:solidFill>
                <a:latin typeface="Arial"/>
              </a:rPr>
              <a:t>29.07.26</a:t>
            </a:fld>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0AC0-9D8F-4B63-980A-A0AB33E98F85}"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Picture 7" descr=""/>
          <p:cNvPicPr/>
          <p:nvPr/>
        </p:nvPicPr>
        <p:blipFill>
          <a:blip r:embed="rId2"/>
          <a:stretch/>
        </p:blipFill>
        <p:spPr>
          <a:xfrm>
            <a:off x="0" y="0"/>
            <a:ext cx="10159920" cy="762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48320" y="685800"/>
            <a:ext cx="4038480" cy="4495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isclaimer: This document is an example for purposes of illustration only and is intended to serve only as a general resource. This document is provided to you for demonstration purposes and you should not disseminate, distribute or copy this document. The company will not accept any liability for the content of this document, or for the consequences of any actions taken o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457200" y="1600200"/>
            <a:ext cx="8229600" cy="4525920"/>
          </a:xfrm>
          <a:prstGeom prst="rect">
            <a:avLst/>
          </a:prstGeom>
          <a:ln w="0">
            <a:noFill/>
          </a:ln>
        </p:spPr>
      </p:pic>
      <p:pic>
        <p:nvPicPr>
          <p:cNvPr id="45" name="Picture 8" descr=""/>
          <p:cNvPicPr/>
          <p:nvPr/>
        </p:nvPicPr>
        <p:blipFill>
          <a:blip r:embed="rId2"/>
          <a:stretch/>
        </p:blipFill>
        <p:spPr>
          <a:xfrm>
            <a:off x="-1752480" y="-1371600"/>
            <a:ext cx="12191760" cy="975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13" descr=""/>
          <p:cNvPicPr/>
          <p:nvPr/>
        </p:nvPicPr>
        <p:blipFill>
          <a:blip r:embed="rId2"/>
          <a:stretch/>
        </p:blipFill>
        <p:spPr>
          <a:xfrm>
            <a:off x="-4267080" y="-1143000"/>
            <a:ext cx="16002000" cy="1000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0T13:30:00Z</dcterms:created>
  <dc:creator>doctrackr</dc:creator>
  <dc:description/>
  <cp:keywords/>
  <dc:language>en-US</dc:language>
  <cp:lastModifiedBy>Dan</cp:lastModifiedBy>
  <cp:lastPrinted>2014-03-20T14:29:09Z</cp:lastPrinted>
  <dcterms:modified xsi:type="dcterms:W3CDTF">2014-03-26T16:10:15Z</dcterms:modified>
  <cp:revision>9</cp:revision>
  <dc:subject/>
  <dc:title>PowerPoint Presentation</dc:title>
</cp:coreProperties>
</file>