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42B95-85B8-46C1-A28D-7D2D6E857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0F694-23C8-4285-AFAD-D01CD0C4C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1F163-69D8-4264-9384-B0085882B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D6273-9D7C-4F18-AB74-4202F7373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FEEA7-3D5A-4D52-A81B-41D8C5A33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C3A5C-3B6D-46F6-8921-9B74FD07C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D8673-5A82-4635-ABFA-DA07090E1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EC634-4EFC-4E62-98B8-27930F7E0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48827-8270-48E1-8A1D-82BB18CA7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D4D7C-482D-48B4-B1F9-A7B8951CD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1980D-F7D4-474A-8D3B-9ABCCADE0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E76DB-6193-4B9E-AC8D-1EE0A4F78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B291-AFAA-4A6D-938B-53656C9A75CB}" type="datetime">
              <a:rPr b="0" lang="ru-RU" sz="1800" spc="-1" strike="noStrike">
                <a:solidFill>
                  <a:srgbClr val="000000"/>
                </a:solidFill>
                <a:latin typeface="Arial"/>
              </a:rPr>
              <a:t>30.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459A-7547-4123-8163-6E0FAAE87F0C}"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