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D8D6D-79B6-4DB5-B336-07FA2BADC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0046E-1E12-4B6D-957C-F6AE466A1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11426-213F-4C0F-BE47-844322399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E3C34-4CD9-4EB4-BEE2-14A04E849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48C3-2F4B-42F7-8F2B-1ABA361DB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C4FEC-04C7-46E8-A7C4-3379B7CED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BA9F4-9829-4588-9446-F8436D04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443EB-0B72-4912-BD26-DD8F84294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AAC4D-ABC5-4107-8FE4-3E7B739E1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9094-A6C3-4BAB-A80B-2739E2F3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CCDAD-1646-4AA4-B213-21FD9A843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A9FA7-3276-4AFE-9F97-33505F0AA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14BE-BC80-4074-A499-54BF710BF2AD}" type="datetime">
              <a:rPr b="0" lang="ru-RU" sz="1800" spc="-1" strike="noStrike">
                <a:solidFill>
                  <a:srgbClr val="000000"/>
                </a:solidFill>
                <a:latin typeface="Arial"/>
              </a:rPr>
              <a:t>30.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445C-BE87-453E-84CC-4EE232ED9F5D}"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