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A623F-AA25-4EAA-A982-27BBF3BF5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E03A9-0BEB-49CC-922C-930ADFBE6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C0563-34A4-46C9-9C76-D9D2097CF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B6D14-CB5D-4691-B181-47E19C497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5563-B694-4CA6-9B63-6417DF242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A5803-E513-4AD1-A809-1A3AF34EE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CF184-3CAD-4E30-B2F8-A0F728B21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6856-19A5-479F-87A8-5814140AA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DB97F-CD5C-4CE1-B019-A42124421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35729-C754-4593-92C5-40B1CC787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B1B1E-2EA5-47F1-A281-95D847C8B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4E436-423F-46A2-B5CD-615E9A3AD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717D-D268-44B0-AC13-14906B59C975}" type="datetime">
              <a:rPr b="0" lang="ru-RU" sz="1800" spc="-1" strike="noStrike">
                <a:solidFill>
                  <a:srgbClr val="000000"/>
                </a:solidFill>
                <a:latin typeface="Arial"/>
              </a:rPr>
              <a:t>29.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403C-34FB-4C39-918D-8A8A549AC6FD}"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