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7CFA6-E0F1-4446-A28E-0F82CF58E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59AFF-7DA2-4CF3-89DD-B491AEAD2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48743-524A-4253-8882-FE0BE1457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7FFF1-CBE8-466D-88C5-85140BBFA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EDC6F-BEEE-461E-A77E-D5A799DB2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9DD18-9B5D-4BB1-B776-D28AC8E56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00D12-A750-4114-94EC-E01940CAC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A63E6-6786-4A9A-A8EE-DD41B426B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F13C3-3D1C-4AFD-80F2-33BE8048A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36EE2-6F03-4525-9E7F-BA9D00053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5D50C-25EE-47C6-AE7E-B7F3BF170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22BDA-E79A-446C-9F35-A37DD4E95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8793-9B8B-4CB1-A14C-7D61087AD941}" type="datetime">
              <a:rPr b="0" lang="ru-RU" sz="1800" spc="-1" strike="noStrike">
                <a:solidFill>
                  <a:srgbClr val="000000"/>
                </a:solidFill>
                <a:latin typeface="Arial"/>
              </a:rPr>
              <a:t>29.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B3E96-5613-4169-AAB8-D0298714D9FA}"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