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BC4-77F5-4EE7-A39A-1B64F3B1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189-AA9A-4D76-9AEB-D12633E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F5C-3F01-426B-975B-7C3B086F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AB3-EDBC-40DD-A6EE-93B5BDD9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683-CBB8-4397-B46C-84475BF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BF7-6BDD-4455-9832-28408C37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A3DB-25B8-4FD3-BD7A-CD0E57F6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5CED-D992-490B-A257-4C010D6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9B84-1FB8-46F2-A6D2-205CCB8D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FC1-A15C-4C3B-8416-8DCD4E5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D7D7-1A20-4930-A05C-020B5F1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E3D-265F-47F2-B790-D23CD385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284-275F-4294-8E83-8236F73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DF1-877C-47E3-A1E7-0EA5940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8D61-3920-4A6C-90EC-CF52062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EDC-58C3-4F60-8F33-DBDD7A19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8B8-FF62-444F-8281-E9B23D70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B1B-6ABA-4F98-9B07-FCC1F16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665-0F3C-4262-99D1-A50CE433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278-497B-46BE-912B-C372911E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53E-D4AF-4C7D-9CF1-AA109B95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202-33CC-41DA-804E-359E227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36B-EAEE-47AD-BA8B-221726DE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305-5C6F-4363-ADCB-010492B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7C4-3E91-439B-938B-9A12FA3E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66996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4779-7F45-41EF-83CF-E893C189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3"/>
          <p:cNvSpPr/>
          <p:nvPr/>
        </p:nvSpPr>
        <p:spPr>
          <a:xfrm>
            <a:off x="1100160" y="3124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dae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1:40:30Z</dcterms:created>
  <dc:creator/>
  <dc:description/>
  <cp:keywords/>
  <dc:language>en-US</dc:language>
  <cp:lastModifiedBy>Chris Sadler</cp:lastModifiedBy>
  <cp:lastPrinted>2010-08-18T16:54:53Z</cp:lastPrinted>
  <dcterms:modified xsi:type="dcterms:W3CDTF">2018-11-23T10:20:39Z</dcterms:modified>
  <cp:revision>251</cp:revision>
  <dc:subject/>
  <dc:title>PowerPoint Presentation</dc:title>
</cp:coreProperties>
</file>