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9BDA1-EAD4-4366-8731-5FF6B6926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3451D-342E-4F3B-82E3-AE922A8F8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759A3-4F4C-432D-8AF2-EAD0C0BA6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3BB36-31DC-4A06-922F-E1F8928B4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89507-778B-4EA7-923F-843F196E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EA833-6A81-4E83-8B7E-820104965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FF3E9-4B02-4272-8553-B9CF06E19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94F1-465D-44F6-8959-17B0F3B85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0C193-40A7-4FF2-8E6A-ECA234712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6E7B-4229-4535-B04C-2811E6C1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AF55C-49C6-482C-82BD-3A4F13C18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A326D-48A8-47DA-AC2F-A6EB3BB21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7475-2DE4-4162-A522-44105E51A727}" type="datetime">
              <a:rPr b="0" lang="ru-RU" sz="1800" spc="-1" strike="noStrike">
                <a:solidFill>
                  <a:srgbClr val="000000"/>
                </a:solidFill>
                <a:latin typeface="Arial"/>
              </a:rPr>
              <a:t>29.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7A83-2160-4E99-84FB-62142E63083E}"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