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9BEE-9601-47B5-9508-0320138F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98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6F78-574E-45A6-BAC4-D91C41E4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896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1201-581F-4643-AF27-EFA122A1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66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124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66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124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6A1D-9428-4186-8B0A-C3976000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D5B1-48DF-48A0-BB67-BA7B558D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ECC9-5C56-482D-AC49-52230E23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B82E-A09A-48A1-9FBA-6F491FE5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940A-59F8-4B48-81B7-3EAC0C39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9B72-C937-456A-BE0F-E7D3041C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420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E68D-9CEB-4613-A8A6-EA4B4F75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40BD-B318-4AD8-B604-EBE30E56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4E67-9EB0-4E59-9786-302A7BB0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73896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8762-D707-4D86-9292-EF240E5C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6F38-09EB-42E9-84DD-F7769932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7598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9E66-46AE-4D7F-ADE2-330B2F6C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73896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9DA9-D595-461D-A46E-5A3E46A0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5966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12480" y="137160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5966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812480" y="3759840"/>
            <a:ext cx="210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BC9C-01A4-479B-8DB4-CC14ABAF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7603-8DEF-4D76-AF6E-F83E7586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8C6-3D57-41D2-8E94-B7C28050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F8FF-5C7A-42B5-B2C3-1F4B640E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420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DAFF-1B18-4537-9AA3-1CEAA845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057A-4339-4BED-82B1-6A743B36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8960" y="375984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AAA3-2C3C-4258-A290-2D216386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8960" y="1371600"/>
            <a:ext cx="319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9840"/>
            <a:ext cx="655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D7A8-84C4-4161-B58B-1ED5154F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d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7AD8-1CFA-4427-AE9A-5ECA95883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669960" y="15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d2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d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da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dae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B65B-A2A7-4669-A9D7-961848B0A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3"/>
          <p:cNvSpPr/>
          <p:nvPr/>
        </p:nvSpPr>
        <p:spPr>
          <a:xfrm>
            <a:off x="1100160" y="31240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dae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1:40:30Z</dcterms:created>
  <dc:creator/>
  <dc:description/>
  <cp:keywords/>
  <dc:language>en-US</dc:language>
  <cp:lastModifiedBy>Chris Sadler</cp:lastModifiedBy>
  <cp:lastPrinted>2010-08-18T16:54:53Z</cp:lastPrinted>
  <dcterms:modified xsi:type="dcterms:W3CDTF">2018-11-23T10:20:39Z</dcterms:modified>
  <cp:revision>251</cp:revision>
  <dc:subject/>
  <dc:title>PowerPoint Presentation</dc:title>
</cp:coreProperties>
</file>