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907588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4234A-01BF-411D-B0AD-437D440A3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420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2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6553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dae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59840"/>
            <a:ext cx="6553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da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2846C-5F09-4B1B-A1BB-C093003D1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420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2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319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dae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738960" y="1371600"/>
            <a:ext cx="319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dae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59840"/>
            <a:ext cx="319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dae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738960" y="3759840"/>
            <a:ext cx="319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da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28998-193B-4BD0-B3AA-7D010F9B6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420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2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2109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dae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596680" y="1371600"/>
            <a:ext cx="2109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dae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12480" y="1371600"/>
            <a:ext cx="2109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dae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59840"/>
            <a:ext cx="2109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dae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596680" y="3759840"/>
            <a:ext cx="2109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dae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812480" y="3759840"/>
            <a:ext cx="2109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da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257CD-05BB-4DCC-B9F7-8E893D877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F6C11-4D39-4B1E-BBBB-49D5D9CBF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420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2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380880" y="1371600"/>
            <a:ext cx="655344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da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67392-9A32-4B2D-8332-36C3D4870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420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2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65534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da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02509-85CD-4D7F-89FA-657BBE6B6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420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2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3197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dae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3738960" y="1371600"/>
            <a:ext cx="3197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da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2FF49-50C0-4F0A-B0D0-C5AD07763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420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2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81CB3-F8D8-41A6-A2CE-9FB58A78D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880" y="380520"/>
            <a:ext cx="8420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da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BE31C-D4F4-4C60-8157-98D5433E0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420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2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319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dae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738960" y="1371600"/>
            <a:ext cx="3197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dae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380880" y="3759840"/>
            <a:ext cx="319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da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8243F-598E-40F2-8439-F4FB84D16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420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2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371600"/>
            <a:ext cx="655344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da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F0194-D182-4030-A5B5-8841617C7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420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2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3197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dae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3738960" y="1371600"/>
            <a:ext cx="319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dae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738960" y="3759840"/>
            <a:ext cx="319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da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05598-C76E-42DD-A1EB-2FD7182D9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420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2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319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dae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738960" y="1371600"/>
            <a:ext cx="319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dae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80880" y="3759840"/>
            <a:ext cx="6553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da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917F9-CD25-40D0-881D-7FED05490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420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2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6553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dae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80880" y="3759840"/>
            <a:ext cx="6553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da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2A1E3-E600-42C7-8FEA-115758A5C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420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2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319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dae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738960" y="1371600"/>
            <a:ext cx="319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dae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880" y="3759840"/>
            <a:ext cx="319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dae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3738960" y="3759840"/>
            <a:ext cx="319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da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C7EE6-9424-4E32-B356-05DE4D58B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420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2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2109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dae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2596680" y="1371600"/>
            <a:ext cx="2109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dae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812480" y="1371600"/>
            <a:ext cx="2109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dae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80880" y="3759840"/>
            <a:ext cx="2109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dae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2596680" y="3759840"/>
            <a:ext cx="2109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dae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4812480" y="3759840"/>
            <a:ext cx="2109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da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CDBC5-F9E4-4C97-A90A-5ED32CED1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420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2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65534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da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4211C-E0CA-47A4-8C8E-2E2AB5428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420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2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3197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dae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738960" y="1371600"/>
            <a:ext cx="3197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da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3AC93-E28E-48A8-B1F1-7C1D3F543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420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2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6ADC4-83BF-447F-A576-B5894B3DF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380520"/>
            <a:ext cx="8420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da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745BF-1C63-49AC-ACFA-3E547334D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420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2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319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dae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738960" y="1371600"/>
            <a:ext cx="3197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dae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59840"/>
            <a:ext cx="319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da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EC6E3-7701-4DFD-9B82-2E4C95C7D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420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2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3197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dae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738960" y="1371600"/>
            <a:ext cx="319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dae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738960" y="3759840"/>
            <a:ext cx="319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da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6B367-F8D7-408D-BF45-8EB69715D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420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2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319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dae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738960" y="1371600"/>
            <a:ext cx="319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dae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59840"/>
            <a:ext cx="6553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da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4DEED-22A7-4C55-8862-71192858C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420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2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d2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371600"/>
            <a:ext cx="65534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da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dae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dae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dae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dae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dae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dae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dae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dae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dae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dae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dae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dae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dae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dae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633B0-F30F-4D45-8F55-A1CEC23DD7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12"/>
          <p:cNvSpPr/>
          <p:nvPr/>
        </p:nvSpPr>
        <p:spPr>
          <a:xfrm>
            <a:off x="669960" y="1584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420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2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d2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371600"/>
            <a:ext cx="65534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da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dae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dae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dae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dae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dae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dae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dae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dae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dae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dae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dae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dae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dae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dae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D5570-34CB-4BCB-996F-BA95CC85C6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13"/>
          <p:cNvSpPr/>
          <p:nvPr/>
        </p:nvSpPr>
        <p:spPr>
          <a:xfrm>
            <a:off x="1100160" y="3124080"/>
            <a:ext cx="770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dae"/>
                </a:solidFill>
                <a:latin typeface="Arial"/>
              </a:rPr>
              <a:t>Any question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18T11:40:30Z</dcterms:created>
  <dc:creator/>
  <dc:description/>
  <cp:keywords/>
  <dc:language>en-US</dc:language>
  <cp:lastModifiedBy>Chris Sadler</cp:lastModifiedBy>
  <cp:lastPrinted>2010-08-18T16:54:53Z</cp:lastPrinted>
  <dcterms:modified xsi:type="dcterms:W3CDTF">2018-11-23T10:20:39Z</dcterms:modified>
  <cp:revision>251</cp:revision>
  <dc:subject/>
  <dc:title>PowerPoint Presentation</dc:title>
</cp:coreProperties>
</file>